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2.png" ContentType="image/png"/>
  <Override PartName="/ppt/media/image13.png" ContentType="image/png"/>
  <Override PartName="/ppt/media/image11.jpeg" ContentType="image/jpeg"/>
  <Override PartName="/ppt/media/image7.gif" ContentType="image/gif"/>
  <Override PartName="/ppt/media/image5.jpeg" ContentType="image/jpeg"/>
  <Override PartName="/ppt/media/image17.png" ContentType="image/png"/>
  <Override PartName="/ppt/media/image10.wmf" ContentType="image/x-wmf"/>
  <Override PartName="/ppt/media/image4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wmf" ContentType="image/x-wmf"/>
  <Override PartName="/ppt/media/image3.jpeg" ContentType="image/jpeg"/>
  <Override PartName="/ppt/media/image8.gif" ContentType="image/gif"/>
  <Override PartName="/ppt/media/image19.wmf" ContentType="image/x-wmf"/>
  <Override PartName="/ppt/media/image18.jpeg" ContentType="image/jpeg"/>
  <Override PartName="/ppt/media/image9.wmf" ContentType="image/x-wmf"/>
  <Override PartName="/ppt/media/image6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4DA1F8-8937-4C92-AA74-EE307B484F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76136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745920" y="4290120"/>
            <a:ext cx="76136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67F724-9509-4A82-9F9F-59C9477101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4724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45920" y="429012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47240" y="429012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45B3EB-AE33-4EFA-AD5D-AAA62000C4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20280" y="193824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894280" y="193824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745920" y="429012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20280" y="429012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894280" y="429012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FB7A38-2B80-4233-8303-A050F2FB32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38E7AE-7B5A-41D9-8943-CFCB7762967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745920" y="1938240"/>
            <a:ext cx="761364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E3EACB-41DF-4151-ACCD-1EEAE098EA8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761364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C957F5-1FDC-4E81-804B-DAFEEF10D0C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1520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240" y="1938240"/>
            <a:ext cx="371520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5F74DE-C02A-4D42-A1B6-2A658563266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CEBDB3-1E56-4AA0-9C96-A6CBCC54F4B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71400" y="635040"/>
            <a:ext cx="7785360" cy="52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0BB747-9D47-4504-8FB2-66B9ED5AD6D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47240" y="1938240"/>
            <a:ext cx="371520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745920" y="429012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FE9D8C-42C0-4193-84C8-BEC924D3DB1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745920" y="1938240"/>
            <a:ext cx="761364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4B35E0-7DD2-4715-A5DA-B13E73DF15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1520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4724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47240" y="429012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6D6E7C-FAC0-435A-9B04-F271D2DE361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4724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745920" y="4290120"/>
            <a:ext cx="76136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0A19AB-FBB0-4E85-B18A-D070F5DB8E8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76136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745920" y="4290120"/>
            <a:ext cx="76136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E7A9F0-9EAB-4315-B511-E4B5A459E4B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4724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745920" y="429012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47240" y="429012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8F0891-9F68-4A31-9FF6-0C30D0F8423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320280" y="193824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894280" y="193824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745920" y="429012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320280" y="429012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894280" y="429012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7A0B60-FE94-4848-8425-538ED591DF2A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B2BE3-2592-442E-B66E-5B5251270CE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745920" y="1938240"/>
            <a:ext cx="761364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13F77-139C-456F-94C6-0136C4BDC50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761364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F61F7-D37F-4B03-866A-74FE2E3A500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1520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47240" y="1938240"/>
            <a:ext cx="371520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90A47-6C88-4D47-A88F-7E7FC301BC3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32FA0-EB9C-4513-8BDB-75731248DBD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761364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8BB8F1-BFFA-4E9D-B337-ED7056CAC33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71400" y="635040"/>
            <a:ext cx="7785360" cy="52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17138-BB6E-469A-A657-2DEC45C68F3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47240" y="1938240"/>
            <a:ext cx="371520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745920" y="429012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38A04-38C2-4C6A-B109-878C4F90C82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1520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4724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47240" y="429012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F2FEF-4A91-4498-B03B-A6E0359E59E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4724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745920" y="4290120"/>
            <a:ext cx="76136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AAAFC-8D19-4D9B-B949-D67B6DED6DE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76136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745920" y="4290120"/>
            <a:ext cx="76136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4FF55-E444-4987-AE07-C3B554E74D0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4724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745920" y="429012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47240" y="429012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A9923-5CB7-498B-800B-A36DC497857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320280" y="193824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94280" y="193824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745920" y="429012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320280" y="429012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94280" y="429012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8505D-DDB2-489A-BC50-70F75E2F50D1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3E861A-3CFA-4DE1-B56B-D2EEE84ADFA6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745920" y="1938240"/>
            <a:ext cx="761364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2B094A-7DB2-49F1-9875-A401F879E2A7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761364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131EC0-FD98-4A75-9B73-B79CBF52BF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1520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240" y="1938240"/>
            <a:ext cx="371520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2CD51E-B347-4EFE-ABB8-AEC8D6674569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1520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47240" y="1938240"/>
            <a:ext cx="371520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611D3D-7842-421D-8972-379D64A47307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F3DBF7-48B1-4798-8FD2-04A8AB359BDB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71400" y="635040"/>
            <a:ext cx="7785360" cy="52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E9DB5F-22C6-45FE-8BA4-C10AFEF4F622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47240" y="1938240"/>
            <a:ext cx="371520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745920" y="429012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7C0C9E-9F99-429D-84EC-1DE5A5EB6A7B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1520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4724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47240" y="429012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695206-74A0-4BEC-B7B3-FA853E6A4862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4724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745920" y="4290120"/>
            <a:ext cx="76136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43AC98-E769-459D-A3FA-37BE727A6C83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76136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745920" y="4290120"/>
            <a:ext cx="76136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87946A-6F87-45EA-A1C9-1ABFCFB0430E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4724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745920" y="429012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47240" y="429012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94C6AA-DF9B-40B1-9F8E-BAB5A40269C4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320280" y="193824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894280" y="193824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745920" y="429012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320280" y="429012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894280" y="429012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FDF7F0-2D68-4D41-8914-57C6059F3A76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29819C-53D3-4B72-BB0A-523C51672C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98CA6A-EFBC-4667-8246-727044F98BC5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745920" y="1938240"/>
            <a:ext cx="761364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8E96F5-C2C0-4F73-963D-A866FA9AFF67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761364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4DECEF-FE1F-456A-AFC2-417EE70B26B8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1520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47240" y="1938240"/>
            <a:ext cx="371520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A96CBF-92FB-4DD6-9CA3-D101D6FBF4DD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62CD9B-426E-4757-9752-47133D332FB7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671400" y="635040"/>
            <a:ext cx="7785360" cy="52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ACE9AF-0744-4506-989C-746DAF054FF9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47240" y="1938240"/>
            <a:ext cx="371520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745920" y="429012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39E2A8-1800-4454-BE43-59A7FB20288C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1520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4724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47240" y="429012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CA1151-8528-4CAC-ACD2-D90326EA16BD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4724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745920" y="4290120"/>
            <a:ext cx="76136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9E0939-02B6-44DE-A90C-F794E2A65338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76136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745920" y="4290120"/>
            <a:ext cx="76136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476D91-92AC-4AF1-887F-15402EB8F52C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4724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745920" y="429012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47240" y="429012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CBE8F4-CC77-4A88-920B-EF5BB6A995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71400" y="635040"/>
            <a:ext cx="7785360" cy="52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E041E2-869A-4E0A-A0FC-9D4A2485D2F3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320280" y="193824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894280" y="193824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745920" y="429012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320280" y="429012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894280" y="429012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113D4F-10E2-4239-BF95-D90FEAB4F255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27434-9C96-4FB2-B728-0EBD780B153B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745920" y="1938240"/>
            <a:ext cx="761364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91354-7EF5-43E0-BFD8-1536297A6B62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761364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D63B2-3650-4D75-85FD-08EB48ED6412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1520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47240" y="1938240"/>
            <a:ext cx="371520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B7E7C-7E7B-4232-ACDC-A4960CBBB849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9320F-3FFE-45D0-8C10-3C640DCD2705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671400" y="635040"/>
            <a:ext cx="7785360" cy="52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90B96-5E55-47DB-B79F-EDC9A153D7A2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47240" y="1938240"/>
            <a:ext cx="371520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745920" y="429012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854CD-E901-4C5F-BDA3-228D27094432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1520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4724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47240" y="429012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9ECB3-20CD-4D78-A502-057D67391321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4724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745920" y="4290120"/>
            <a:ext cx="76136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1BD00-7E78-4BE9-B63D-FFEE7548B3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47240" y="1938240"/>
            <a:ext cx="371520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745920" y="429012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8D4261-747F-4ACA-8B70-E2A7D56ADEC8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76136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745920" y="4290120"/>
            <a:ext cx="76136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AF861-392A-45A3-9853-FFC2E8B5E31C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4724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745920" y="429012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47240" y="429012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41B80-C1DA-434B-9902-95D5CC2CC3AB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320280" y="193824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894280" y="193824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745920" y="429012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320280" y="429012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894280" y="429012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4A1D9-3736-475F-80AA-14195E855B48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C6FC70E-A1D6-4DF1-847F-A7C39FA598F4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745920" y="1938240"/>
            <a:ext cx="761364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23BCAE2-D93F-41EF-9CC7-3AB22D6C2E7A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761364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CBE0D89-263D-4E50-9443-C2FFA90FC0E8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1520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47240" y="1938240"/>
            <a:ext cx="371520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2124AD7-7FB5-4D20-B8E6-F5A3E8529927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4090BA3-DF58-4090-832F-D5166A0C1B41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671400" y="635040"/>
            <a:ext cx="7785360" cy="52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4D13FB5-263B-412E-9D09-B123A19EF9A4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47240" y="1938240"/>
            <a:ext cx="371520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745920" y="429012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1DCE50F-E213-457F-9C56-74D181FE88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1520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4724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47240" y="429012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73BA5E-E29A-4EE3-AFD1-650F5872C25B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1520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4724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647240" y="429012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2C6F681-3D48-486E-8E7D-32C638A4BA15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4724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745920" y="4290120"/>
            <a:ext cx="76136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2D137DA-A207-4C76-AE3D-3101DEAA1928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76136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745920" y="4290120"/>
            <a:ext cx="76136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E725F87-9849-4A96-988F-B25EF8FD9829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4724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745920" y="429012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647240" y="429012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3AE6852-69DD-4DCC-A270-D141EA1FDC60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320280" y="193824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894280" y="193824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745920" y="429012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320280" y="429012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894280" y="429012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AA5C9B8-A41A-4F66-B794-7E57801052D2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745920" y="1938240"/>
            <a:ext cx="761364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761364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1520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47240" y="1938240"/>
            <a:ext cx="371520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4724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745920" y="4290120"/>
            <a:ext cx="76136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FE091E-0878-438E-909B-30E69B2E8B23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671400" y="635040"/>
            <a:ext cx="7785360" cy="52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47240" y="1938240"/>
            <a:ext cx="371520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745920" y="429012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1520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4724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47240" y="429012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4724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745920" y="4290120"/>
            <a:ext cx="76136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76136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745920" y="4290120"/>
            <a:ext cx="76136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4724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745920" y="429012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47240" y="429012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320280" y="193824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894280" y="193824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745920" y="429012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320280" y="429012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5894280" y="429012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1"/>
          <p:cNvSpPr/>
          <p:nvPr/>
        </p:nvSpPr>
        <p:spPr>
          <a:xfrm>
            <a:off x="8763120" y="0"/>
            <a:ext cx="144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29680" cy="11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742968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8786880" y="268200"/>
            <a:ext cx="199872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Text Box 5"/>
          <p:cNvSpPr/>
          <p:nvPr/>
        </p:nvSpPr>
        <p:spPr>
          <a:xfrm rot="5400000">
            <a:off x="702792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Line 6"/>
          <p:cNvSpPr/>
          <p:nvPr/>
        </p:nvSpPr>
        <p:spPr>
          <a:xfrm>
            <a:off x="76320" y="0"/>
            <a:ext cx="144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Line 7"/>
          <p:cNvSpPr/>
          <p:nvPr/>
        </p:nvSpPr>
        <p:spPr>
          <a:xfrm>
            <a:off x="8991720" y="0"/>
            <a:ext cx="144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Rectangle 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Line 9"/>
          <p:cNvSpPr/>
          <p:nvPr/>
        </p:nvSpPr>
        <p:spPr>
          <a:xfrm>
            <a:off x="8915400" y="0"/>
            <a:ext cx="144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Oval 1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sldNum" idx="1"/>
          </p:nvPr>
        </p:nvSpPr>
        <p:spPr>
          <a:xfrm>
            <a:off x="8129520" y="5734080"/>
            <a:ext cx="571680" cy="48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  <a:ea typeface="Arial Unicode MS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4BE2E1D-ACCB-484E-A8B1-227895D4DC37}" type="slidenum">
              <a:rPr b="1" lang="ru-RU" sz="1400" spc="-1" strike="noStrike">
                <a:solidFill>
                  <a:srgbClr val="ffffff"/>
                </a:solidFill>
                <a:latin typeface="Century Schoolbook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Rectangle 2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Line 5"/>
          <p:cNvSpPr/>
          <p:nvPr/>
        </p:nvSpPr>
        <p:spPr>
          <a:xfrm>
            <a:off x="106200" y="0"/>
            <a:ext cx="180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Line 6"/>
          <p:cNvSpPr/>
          <p:nvPr/>
        </p:nvSpPr>
        <p:spPr>
          <a:xfrm>
            <a:off x="914400" y="0"/>
            <a:ext cx="1440" cy="6858000"/>
          </a:xfrm>
          <a:prstGeom prst="line">
            <a:avLst/>
          </a:prstGeom>
          <a:ln w="57240">
            <a:solidFill>
              <a:srgbClr val="ffe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Line 7"/>
          <p:cNvSpPr/>
          <p:nvPr/>
        </p:nvSpPr>
        <p:spPr>
          <a:xfrm>
            <a:off x="853920" y="0"/>
            <a:ext cx="180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Line 8"/>
          <p:cNvSpPr/>
          <p:nvPr/>
        </p:nvSpPr>
        <p:spPr>
          <a:xfrm>
            <a:off x="1727280" y="0"/>
            <a:ext cx="1440" cy="6858000"/>
          </a:xfrm>
          <a:prstGeom prst="line">
            <a:avLst/>
          </a:prstGeom>
          <a:ln w="284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Line 9"/>
          <p:cNvSpPr/>
          <p:nvPr/>
        </p:nvSpPr>
        <p:spPr>
          <a:xfrm>
            <a:off x="1066680" y="0"/>
            <a:ext cx="180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Line 10"/>
          <p:cNvSpPr/>
          <p:nvPr/>
        </p:nvSpPr>
        <p:spPr>
          <a:xfrm>
            <a:off x="9113760" y="0"/>
            <a:ext cx="180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Rectangle 11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Oval 12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Oval 13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Oval 14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Oval 15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Oval 16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29680" cy="11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742968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Text Box 19"/>
          <p:cNvSpPr/>
          <p:nvPr/>
        </p:nvSpPr>
        <p:spPr>
          <a:xfrm>
            <a:off x="9097920" y="222120"/>
            <a:ext cx="22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Text Box 20"/>
          <p:cNvSpPr/>
          <p:nvPr/>
        </p:nvSpPr>
        <p:spPr>
          <a:xfrm rot="5400000">
            <a:off x="71146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2"/>
          </p:nvPr>
        </p:nvSpPr>
        <p:spPr>
          <a:xfrm>
            <a:off x="1325520" y="4929120"/>
            <a:ext cx="57168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3416079-E953-41ED-AAAF-B749892E2E06}" type="slidenum">
              <a:rPr b="1" lang="ru-RU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Line 1"/>
          <p:cNvSpPr/>
          <p:nvPr/>
        </p:nvSpPr>
        <p:spPr>
          <a:xfrm>
            <a:off x="8763120" y="0"/>
            <a:ext cx="144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Line 2"/>
          <p:cNvSpPr/>
          <p:nvPr/>
        </p:nvSpPr>
        <p:spPr>
          <a:xfrm>
            <a:off x="76320" y="0"/>
            <a:ext cx="144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Line 3"/>
          <p:cNvSpPr/>
          <p:nvPr/>
        </p:nvSpPr>
        <p:spPr>
          <a:xfrm>
            <a:off x="8991720" y="0"/>
            <a:ext cx="144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Line 5"/>
          <p:cNvSpPr/>
          <p:nvPr/>
        </p:nvSpPr>
        <p:spPr>
          <a:xfrm>
            <a:off x="8915400" y="0"/>
            <a:ext cx="144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Oval 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29680" cy="11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742968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Text Box 9"/>
          <p:cNvSpPr/>
          <p:nvPr/>
        </p:nvSpPr>
        <p:spPr>
          <a:xfrm>
            <a:off x="8786880" y="268200"/>
            <a:ext cx="199872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571680" cy="48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59E193D-7CE0-434A-A13C-A73BA9CCE221}" type="slidenum">
              <a:rPr b="1" lang="ru-RU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11"/>
          <p:cNvSpPr/>
          <p:nvPr/>
        </p:nvSpPr>
        <p:spPr>
          <a:xfrm rot="5400000">
            <a:off x="702792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Rectangle 2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Rectangle 3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Rectangle 4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Line 5"/>
          <p:cNvSpPr/>
          <p:nvPr/>
        </p:nvSpPr>
        <p:spPr>
          <a:xfrm>
            <a:off x="106200" y="0"/>
            <a:ext cx="180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Line 6"/>
          <p:cNvSpPr/>
          <p:nvPr/>
        </p:nvSpPr>
        <p:spPr>
          <a:xfrm>
            <a:off x="914400" y="0"/>
            <a:ext cx="1440" cy="6858000"/>
          </a:xfrm>
          <a:prstGeom prst="line">
            <a:avLst/>
          </a:prstGeom>
          <a:ln w="57240">
            <a:solidFill>
              <a:srgbClr val="ffe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Line 7"/>
          <p:cNvSpPr/>
          <p:nvPr/>
        </p:nvSpPr>
        <p:spPr>
          <a:xfrm>
            <a:off x="853920" y="0"/>
            <a:ext cx="180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Line 8"/>
          <p:cNvSpPr/>
          <p:nvPr/>
        </p:nvSpPr>
        <p:spPr>
          <a:xfrm>
            <a:off x="1727280" y="0"/>
            <a:ext cx="1440" cy="6858000"/>
          </a:xfrm>
          <a:prstGeom prst="line">
            <a:avLst/>
          </a:prstGeom>
          <a:ln w="284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066680" y="0"/>
            <a:ext cx="180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Rectangle 10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Oval 11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Oval 12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Oval 13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Oval 14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Oval 15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Line 16"/>
          <p:cNvSpPr/>
          <p:nvPr/>
        </p:nvSpPr>
        <p:spPr>
          <a:xfrm>
            <a:off x="9097920" y="0"/>
            <a:ext cx="180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29680" cy="11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742968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Text Box 19"/>
          <p:cNvSpPr/>
          <p:nvPr/>
        </p:nvSpPr>
        <p:spPr>
          <a:xfrm>
            <a:off x="9096480" y="217440"/>
            <a:ext cx="227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Text Box 20"/>
          <p:cNvSpPr/>
          <p:nvPr/>
        </p:nvSpPr>
        <p:spPr>
          <a:xfrm rot="5400000">
            <a:off x="71146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sldNum" idx="4"/>
          </p:nvPr>
        </p:nvSpPr>
        <p:spPr>
          <a:xfrm>
            <a:off x="1339560" y="4929120"/>
            <a:ext cx="57132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D6EAB73-BF6F-4A03-A946-666A89CB91AB}" type="slidenum">
              <a:rPr b="1" lang="ru-RU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Line 1"/>
          <p:cNvSpPr/>
          <p:nvPr/>
        </p:nvSpPr>
        <p:spPr>
          <a:xfrm>
            <a:off x="8763120" y="0"/>
            <a:ext cx="144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Line 2"/>
          <p:cNvSpPr/>
          <p:nvPr/>
        </p:nvSpPr>
        <p:spPr>
          <a:xfrm>
            <a:off x="76320" y="0"/>
            <a:ext cx="144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Line 3"/>
          <p:cNvSpPr/>
          <p:nvPr/>
        </p:nvSpPr>
        <p:spPr>
          <a:xfrm>
            <a:off x="8991720" y="0"/>
            <a:ext cx="144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Rectangle 4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Line 5"/>
          <p:cNvSpPr/>
          <p:nvPr/>
        </p:nvSpPr>
        <p:spPr>
          <a:xfrm>
            <a:off x="8915400" y="0"/>
            <a:ext cx="144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Oval 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29680" cy="11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742968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Text Box 9"/>
          <p:cNvSpPr/>
          <p:nvPr/>
        </p:nvSpPr>
        <p:spPr>
          <a:xfrm>
            <a:off x="8786880" y="268200"/>
            <a:ext cx="199872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Num" idx="5"/>
          </p:nvPr>
        </p:nvSpPr>
        <p:spPr>
          <a:xfrm>
            <a:off x="8129520" y="5734080"/>
            <a:ext cx="571680" cy="48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B3DA5B4-A600-45EE-B3A6-6624F709DBE8}" type="slidenum">
              <a:rPr b="1" lang="ru-RU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11"/>
          <p:cNvSpPr/>
          <p:nvPr/>
        </p:nvSpPr>
        <p:spPr>
          <a:xfrm rot="5400000">
            <a:off x="702792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Line 1"/>
          <p:cNvSpPr/>
          <p:nvPr/>
        </p:nvSpPr>
        <p:spPr>
          <a:xfrm>
            <a:off x="8763120" y="0"/>
            <a:ext cx="144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Line 2"/>
          <p:cNvSpPr/>
          <p:nvPr/>
        </p:nvSpPr>
        <p:spPr>
          <a:xfrm>
            <a:off x="6248520" y="0"/>
            <a:ext cx="144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Line 3"/>
          <p:cNvSpPr/>
          <p:nvPr/>
        </p:nvSpPr>
        <p:spPr>
          <a:xfrm>
            <a:off x="6192720" y="0"/>
            <a:ext cx="180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Line 4"/>
          <p:cNvSpPr/>
          <p:nvPr/>
        </p:nvSpPr>
        <p:spPr>
          <a:xfrm>
            <a:off x="8991720" y="0"/>
            <a:ext cx="144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Rectangle 5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Line 6"/>
          <p:cNvSpPr/>
          <p:nvPr/>
        </p:nvSpPr>
        <p:spPr>
          <a:xfrm>
            <a:off x="8915400" y="0"/>
            <a:ext cx="144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Oval 7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29680" cy="11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742968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Text Box 10"/>
          <p:cNvSpPr/>
          <p:nvPr/>
        </p:nvSpPr>
        <p:spPr>
          <a:xfrm>
            <a:off x="8786880" y="268200"/>
            <a:ext cx="199872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sldNum" idx="6"/>
          </p:nvPr>
        </p:nvSpPr>
        <p:spPr>
          <a:xfrm>
            <a:off x="8129520" y="5734080"/>
            <a:ext cx="571680" cy="48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CDC8A07-2BED-44C2-A637-9CA682CD4D0F}" type="slidenum">
              <a:rPr b="1" lang="ru-RU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Text Box 12"/>
          <p:cNvSpPr/>
          <p:nvPr/>
        </p:nvSpPr>
        <p:spPr>
          <a:xfrm rot="5400000">
            <a:off x="702792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Line 1"/>
          <p:cNvSpPr/>
          <p:nvPr/>
        </p:nvSpPr>
        <p:spPr>
          <a:xfrm>
            <a:off x="8763120" y="0"/>
            <a:ext cx="144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Oval 2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Line 3"/>
          <p:cNvSpPr/>
          <p:nvPr/>
        </p:nvSpPr>
        <p:spPr>
          <a:xfrm>
            <a:off x="8991720" y="0"/>
            <a:ext cx="144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Rectangle 4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Line 5"/>
          <p:cNvSpPr/>
          <p:nvPr/>
        </p:nvSpPr>
        <p:spPr>
          <a:xfrm>
            <a:off x="8915400" y="0"/>
            <a:ext cx="144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Line 6"/>
          <p:cNvSpPr/>
          <p:nvPr/>
        </p:nvSpPr>
        <p:spPr>
          <a:xfrm>
            <a:off x="6248520" y="0"/>
            <a:ext cx="144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Line 7"/>
          <p:cNvSpPr/>
          <p:nvPr/>
        </p:nvSpPr>
        <p:spPr>
          <a:xfrm>
            <a:off x="6192720" y="0"/>
            <a:ext cx="180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29680" cy="11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742968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Text Box 10"/>
          <p:cNvSpPr/>
          <p:nvPr/>
        </p:nvSpPr>
        <p:spPr>
          <a:xfrm>
            <a:off x="8786880" y="268200"/>
            <a:ext cx="199872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sldNum" idx="7"/>
          </p:nvPr>
        </p:nvSpPr>
        <p:spPr>
          <a:xfrm>
            <a:off x="8129520" y="5734080"/>
            <a:ext cx="571680" cy="48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8033E04-071A-4849-90BD-43B20C0EF351}" type="slidenum">
              <a:rPr b="1" lang="ru-RU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Text Box 12"/>
          <p:cNvSpPr/>
          <p:nvPr/>
        </p:nvSpPr>
        <p:spPr>
          <a:xfrm rot="5400000">
            <a:off x="702792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4000" spc="-1" strike="noStrike">
                <a:solidFill>
                  <a:srgbClr val="99284c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45920" y="1938240"/>
            <a:ext cx="761364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Text Box 1"/>
          <p:cNvSpPr/>
          <p:nvPr/>
        </p:nvSpPr>
        <p:spPr>
          <a:xfrm>
            <a:off x="539640" y="642960"/>
            <a:ext cx="79200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  <a:ea typeface="Arial Unicode MS"/>
              </a:rPr>
              <a:t>ПРОЕКТ НА ТЕМУ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  <a:ea typeface="Arial Unicode MS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entury Schoolbook"/>
                <a:ea typeface="Arial Unicode MS"/>
              </a:rPr>
              <a:t>«НЕГАТИВНОЕ ВЛИЯНИЕ ШУМА НА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entury Schoolbook"/>
                <a:ea typeface="Arial Unicode MS"/>
              </a:rPr>
              <a:t>ЗДОРОВЬЕ ЧЕЛОВЕКА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Text Box 2"/>
          <p:cNvSpPr/>
          <p:nvPr/>
        </p:nvSpPr>
        <p:spPr>
          <a:xfrm>
            <a:off x="4859280" y="3240000"/>
            <a:ext cx="360036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3668c4"/>
                </a:solidFill>
                <a:latin typeface="Times New Roman"/>
                <a:ea typeface="Arial Unicode MS"/>
              </a:rPr>
              <a:t>Выполнили :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3668c4"/>
                </a:solidFill>
                <a:latin typeface="Arial"/>
                <a:ea typeface="Arial Unicode MS"/>
              </a:rPr>
              <a:t>Иноземцева Т.Н.МОУ «СОШ № 103» г.Саратов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3668c4"/>
                </a:solidFill>
                <a:latin typeface="Arial"/>
                <a:ea typeface="Arial Unicode MS"/>
              </a:rPr>
              <a:t>Фролова Н.А.МОУ «СОШ № 103» г.Саратов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92" name="Picture 3" descr=""/>
          <p:cNvPicPr/>
          <p:nvPr/>
        </p:nvPicPr>
        <p:blipFill>
          <a:blip r:embed="rId1"/>
          <a:stretch/>
        </p:blipFill>
        <p:spPr>
          <a:xfrm>
            <a:off x="-360360" y="8810640"/>
            <a:ext cx="2801880" cy="144936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4" descr=""/>
          <p:cNvPicPr/>
          <p:nvPr/>
        </p:nvPicPr>
        <p:blipFill>
          <a:blip r:embed="rId2"/>
          <a:stretch/>
        </p:blipFill>
        <p:spPr>
          <a:xfrm>
            <a:off x="574560" y="2824200"/>
            <a:ext cx="4286520" cy="329544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Picture 1" descr=""/>
          <p:cNvPicPr/>
          <p:nvPr/>
        </p:nvPicPr>
        <p:blipFill>
          <a:blip r:embed="rId1"/>
          <a:stretch/>
        </p:blipFill>
        <p:spPr>
          <a:xfrm>
            <a:off x="5759280" y="711360"/>
            <a:ext cx="2802240" cy="1449360"/>
          </a:xfrm>
          <a:prstGeom prst="rect">
            <a:avLst/>
          </a:prstGeom>
          <a:ln w="0">
            <a:noFill/>
          </a:ln>
        </p:spPr>
      </p:pic>
      <p:sp>
        <p:nvSpPr>
          <p:cNvPr id="425" name="Text Box 2"/>
          <p:cNvSpPr/>
          <p:nvPr/>
        </p:nvSpPr>
        <p:spPr>
          <a:xfrm>
            <a:off x="452520" y="314280"/>
            <a:ext cx="7467480" cy="16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575f6d"/>
                </a:solidFill>
                <a:latin typeface="Century Schoolbook"/>
                <a:ea typeface="Arial Unicode MS"/>
              </a:rPr>
              <a:t>Рекомендации </a:t>
            </a:r>
            <a:br>
              <a:rPr sz="2600"/>
            </a:br>
            <a:r>
              <a:rPr b="1" lang="ru-RU" sz="2600" spc="-1" strike="noStrike">
                <a:solidFill>
                  <a:srgbClr val="575f6d"/>
                </a:solidFill>
                <a:latin typeface="Century Schoolbook"/>
                <a:ea typeface="Arial Unicode MS"/>
              </a:rPr>
              <a:t>по ослаблению негативного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575f6d"/>
                </a:solidFill>
                <a:latin typeface="Century Schoolbook"/>
                <a:ea typeface="Arial Unicode MS"/>
              </a:rPr>
              <a:t>влияния шума на организм человека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Text Box 3"/>
          <p:cNvSpPr/>
          <p:nvPr/>
        </p:nvSpPr>
        <p:spPr>
          <a:xfrm>
            <a:off x="457200" y="1979640"/>
            <a:ext cx="7467480" cy="449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93560" indent="-4935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93560"/>
                <a:tab algn="l" pos="941400"/>
                <a:tab algn="l" pos="1390680"/>
                <a:tab algn="l" pos="1839960"/>
                <a:tab algn="l" pos="2289240"/>
                <a:tab algn="l" pos="2738520"/>
                <a:tab algn="l" pos="3187800"/>
                <a:tab algn="l" pos="3637080"/>
                <a:tab algn="l" pos="4086360"/>
                <a:tab algn="l" pos="4535640"/>
                <a:tab algn="l" pos="4984920"/>
                <a:tab algn="l" pos="5433840"/>
                <a:tab algn="l" pos="5883120"/>
                <a:tab algn="l" pos="6332400"/>
                <a:tab algn="l" pos="6781680"/>
                <a:tab algn="l" pos="7230960"/>
                <a:tab algn="l" pos="7680240"/>
                <a:tab algn="l" pos="8129520"/>
                <a:tab algn="l" pos="8578800"/>
                <a:tab algn="l" pos="9028080"/>
                <a:tab algn="l" pos="947736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Ограничить ежедневное прослушивание громкой музыки, телевизионных передач, работу за компьютером 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93560" indent="-4935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93560"/>
                <a:tab algn="l" pos="941400"/>
                <a:tab algn="l" pos="1390680"/>
                <a:tab algn="l" pos="1839960"/>
                <a:tab algn="l" pos="2289240"/>
                <a:tab algn="l" pos="2738520"/>
                <a:tab algn="l" pos="3187800"/>
                <a:tab algn="l" pos="3637080"/>
                <a:tab algn="l" pos="4086360"/>
                <a:tab algn="l" pos="4535640"/>
                <a:tab algn="l" pos="4984920"/>
                <a:tab algn="l" pos="5433840"/>
                <a:tab algn="l" pos="5883120"/>
                <a:tab algn="l" pos="6332400"/>
                <a:tab algn="l" pos="6781680"/>
                <a:tab algn="l" pos="7230960"/>
                <a:tab algn="l" pos="7680240"/>
                <a:tab algn="l" pos="8129520"/>
                <a:tab algn="l" pos="8578800"/>
                <a:tab algn="l" pos="9028080"/>
                <a:tab algn="l" pos="947736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При выполнении шумной работы, через каждый час делать 10 минутный</a:t>
            </a:r>
            <a:r>
              <a:rPr b="0" lang="ru-RU" sz="18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	</a:t>
            </a:r>
            <a:r>
              <a:rPr b="0" lang="ru-RU" sz="18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 перерыв или прослушивать успокаивающую музыку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93560" indent="-4935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93560"/>
                <a:tab algn="l" pos="941400"/>
                <a:tab algn="l" pos="1390680"/>
                <a:tab algn="l" pos="1839960"/>
                <a:tab algn="l" pos="2289240"/>
                <a:tab algn="l" pos="2738520"/>
                <a:tab algn="l" pos="3187800"/>
                <a:tab algn="l" pos="3637080"/>
                <a:tab algn="l" pos="4086360"/>
                <a:tab algn="l" pos="4535640"/>
                <a:tab algn="l" pos="4984920"/>
                <a:tab algn="l" pos="5433840"/>
                <a:tab algn="l" pos="5883120"/>
                <a:tab algn="l" pos="6332400"/>
                <a:tab algn="l" pos="6781680"/>
                <a:tab algn="l" pos="7230960"/>
                <a:tab algn="l" pos="7680240"/>
                <a:tab algn="l" pos="8129520"/>
                <a:tab algn="l" pos="8578800"/>
                <a:tab algn="l" pos="9028080"/>
                <a:tab algn="l" pos="947736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Следить за разговорной речью: не кричать, не повышать голос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93560" indent="-4935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93560"/>
                <a:tab algn="l" pos="941400"/>
                <a:tab algn="l" pos="1390680"/>
                <a:tab algn="l" pos="1839960"/>
                <a:tab algn="l" pos="2289240"/>
                <a:tab algn="l" pos="2738520"/>
                <a:tab algn="l" pos="3187800"/>
                <a:tab algn="l" pos="3637080"/>
                <a:tab algn="l" pos="4086360"/>
                <a:tab algn="l" pos="4535640"/>
                <a:tab algn="l" pos="4984920"/>
                <a:tab algn="l" pos="5433840"/>
                <a:tab algn="l" pos="5883120"/>
                <a:tab algn="l" pos="6332400"/>
                <a:tab algn="l" pos="6781680"/>
                <a:tab algn="l" pos="7230960"/>
                <a:tab algn="l" pos="7680240"/>
                <a:tab algn="l" pos="8129520"/>
                <a:tab algn="l" pos="8578800"/>
                <a:tab algn="l" pos="9028080"/>
                <a:tab algn="l" pos="947736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Регулярное медицинское обследование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93560" indent="-4935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93560"/>
                <a:tab algn="l" pos="941400"/>
                <a:tab algn="l" pos="1390680"/>
                <a:tab algn="l" pos="1839960"/>
                <a:tab algn="l" pos="2289240"/>
                <a:tab algn="l" pos="2738520"/>
                <a:tab algn="l" pos="3187800"/>
                <a:tab algn="l" pos="3637080"/>
                <a:tab algn="l" pos="4086360"/>
                <a:tab algn="l" pos="4535640"/>
                <a:tab algn="l" pos="4984920"/>
                <a:tab algn="l" pos="5433840"/>
                <a:tab algn="l" pos="5883120"/>
                <a:tab algn="l" pos="6332400"/>
                <a:tab algn="l" pos="6781680"/>
                <a:tab algn="l" pos="7230960"/>
                <a:tab algn="l" pos="7680240"/>
                <a:tab algn="l" pos="8129520"/>
                <a:tab algn="l" pos="8578800"/>
                <a:tab algn="l" pos="9028080"/>
                <a:tab algn="l" pos="947736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Посадка деревьев вокруг зданий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93560" indent="-4935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93560"/>
                <a:tab algn="l" pos="941400"/>
                <a:tab algn="l" pos="1390680"/>
                <a:tab algn="l" pos="1839960"/>
                <a:tab algn="l" pos="2289240"/>
                <a:tab algn="l" pos="2738520"/>
                <a:tab algn="l" pos="3187800"/>
                <a:tab algn="l" pos="3637080"/>
                <a:tab algn="l" pos="4086360"/>
                <a:tab algn="l" pos="4535640"/>
                <a:tab algn="l" pos="4984920"/>
                <a:tab algn="l" pos="5433840"/>
                <a:tab algn="l" pos="5883120"/>
                <a:tab algn="l" pos="6332400"/>
                <a:tab algn="l" pos="6781680"/>
                <a:tab algn="l" pos="7230960"/>
                <a:tab algn="l" pos="7680240"/>
                <a:tab algn="l" pos="8129520"/>
                <a:tab algn="l" pos="8578800"/>
                <a:tab algn="l" pos="9028080"/>
                <a:tab algn="l" pos="947736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Предпочтение отдавать отдыху на природе, а не дискотеке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93560" indent="-4935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93560"/>
                <a:tab algn="l" pos="941400"/>
                <a:tab algn="l" pos="1390680"/>
                <a:tab algn="l" pos="1839960"/>
                <a:tab algn="l" pos="2289240"/>
                <a:tab algn="l" pos="2738520"/>
                <a:tab algn="l" pos="3187800"/>
                <a:tab algn="l" pos="3637080"/>
                <a:tab algn="l" pos="4086360"/>
                <a:tab algn="l" pos="4535640"/>
                <a:tab algn="l" pos="4984920"/>
                <a:tab algn="l" pos="5433840"/>
                <a:tab algn="l" pos="5883120"/>
                <a:tab algn="l" pos="6332400"/>
                <a:tab algn="l" pos="6781680"/>
                <a:tab algn="l" pos="7230960"/>
                <a:tab algn="l" pos="7680240"/>
                <a:tab algn="l" pos="8129520"/>
                <a:tab algn="l" pos="8578800"/>
                <a:tab algn="l" pos="9028080"/>
                <a:tab algn="l" pos="947736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Применение средств  защиты от шума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93560" indent="-4935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93560"/>
                <a:tab algn="l" pos="941400"/>
                <a:tab algn="l" pos="1390680"/>
                <a:tab algn="l" pos="1839960"/>
                <a:tab algn="l" pos="2289240"/>
                <a:tab algn="l" pos="2738520"/>
                <a:tab algn="l" pos="3187800"/>
                <a:tab algn="l" pos="3637080"/>
                <a:tab algn="l" pos="4086360"/>
                <a:tab algn="l" pos="4535640"/>
                <a:tab algn="l" pos="4984920"/>
                <a:tab algn="l" pos="5433840"/>
                <a:tab algn="l" pos="5883120"/>
                <a:tab algn="l" pos="6332400"/>
                <a:tab algn="l" pos="6781680"/>
                <a:tab algn="l" pos="7230960"/>
                <a:tab algn="l" pos="7680240"/>
                <a:tab algn="l" pos="8129520"/>
                <a:tab algn="l" pos="8578800"/>
                <a:tab algn="l" pos="9028080"/>
                <a:tab algn="l" pos="947736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        </a:t>
            </a:r>
            <a:r>
              <a:rPr b="0" lang="ru-RU" sz="18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наушники из шумоизолирующих материалов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93560" indent="-4935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93560"/>
                <a:tab algn="l" pos="941400"/>
                <a:tab algn="l" pos="1390680"/>
                <a:tab algn="l" pos="1839960"/>
                <a:tab algn="l" pos="2289240"/>
                <a:tab algn="l" pos="2738520"/>
                <a:tab algn="l" pos="3187800"/>
                <a:tab algn="l" pos="3637080"/>
                <a:tab algn="l" pos="4086360"/>
                <a:tab algn="l" pos="4535640"/>
                <a:tab algn="l" pos="4984920"/>
                <a:tab algn="l" pos="5433840"/>
                <a:tab algn="l" pos="5883120"/>
                <a:tab algn="l" pos="6332400"/>
                <a:tab algn="l" pos="6781680"/>
                <a:tab algn="l" pos="7230960"/>
                <a:tab algn="l" pos="7680240"/>
                <a:tab algn="l" pos="8129520"/>
                <a:tab algn="l" pos="8578800"/>
                <a:tab algn="l" pos="9028080"/>
                <a:tab algn="l" pos="947736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        </a:t>
            </a:r>
            <a:r>
              <a:rPr b="0" lang="ru-RU" sz="18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противошумные вкладыши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93560" indent="-493560">
              <a:lnSpc>
                <a:spcPct val="80000"/>
              </a:lnSpc>
              <a:spcBef>
                <a:spcPts val="601"/>
              </a:spcBef>
              <a:buClr>
                <a:srgbClr val="2300dc"/>
              </a:buClr>
              <a:buFont typeface="Wingdings" charset="2"/>
              <a:buChar char=""/>
              <a:tabLst>
                <a:tab algn="l" pos="493560"/>
                <a:tab algn="l" pos="941400"/>
                <a:tab algn="l" pos="1390680"/>
                <a:tab algn="l" pos="1839960"/>
                <a:tab algn="l" pos="2289240"/>
                <a:tab algn="l" pos="2738520"/>
                <a:tab algn="l" pos="3187800"/>
                <a:tab algn="l" pos="3637080"/>
                <a:tab algn="l" pos="4086360"/>
                <a:tab algn="l" pos="4535640"/>
                <a:tab algn="l" pos="4984920"/>
                <a:tab algn="l" pos="5433840"/>
                <a:tab algn="l" pos="5883120"/>
                <a:tab algn="l" pos="6332400"/>
                <a:tab algn="l" pos="6781680"/>
                <a:tab algn="l" pos="7230960"/>
                <a:tab algn="l" pos="7680240"/>
                <a:tab algn="l" pos="8129520"/>
                <a:tab algn="l" pos="8578800"/>
                <a:tab algn="l" pos="9028080"/>
                <a:tab algn="l" pos="947736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Информационная работа по профилактике влияния шума на здоровье обучающихся 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93560" indent="-4935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93560"/>
                <a:tab algn="l" pos="941400"/>
                <a:tab algn="l" pos="1390680"/>
                <a:tab algn="l" pos="1839960"/>
                <a:tab algn="l" pos="2289240"/>
                <a:tab algn="l" pos="2738520"/>
                <a:tab algn="l" pos="3187800"/>
                <a:tab algn="l" pos="3637080"/>
                <a:tab algn="l" pos="4086360"/>
                <a:tab algn="l" pos="4535640"/>
                <a:tab algn="l" pos="4984920"/>
                <a:tab algn="l" pos="5433840"/>
                <a:tab algn="l" pos="5883120"/>
                <a:tab algn="l" pos="6332400"/>
                <a:tab algn="l" pos="6781680"/>
                <a:tab algn="l" pos="7230960"/>
                <a:tab algn="l" pos="7680240"/>
                <a:tab algn="l" pos="8129520"/>
                <a:tab algn="l" pos="8578800"/>
                <a:tab algn="l" pos="9028080"/>
                <a:tab algn="l" pos="947736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93560" indent="-4935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93560"/>
                <a:tab algn="l" pos="941400"/>
                <a:tab algn="l" pos="1390680"/>
                <a:tab algn="l" pos="1839960"/>
                <a:tab algn="l" pos="2289240"/>
                <a:tab algn="l" pos="2738520"/>
                <a:tab algn="l" pos="3187800"/>
                <a:tab algn="l" pos="3637080"/>
                <a:tab algn="l" pos="4086360"/>
                <a:tab algn="l" pos="4535640"/>
                <a:tab algn="l" pos="4984920"/>
                <a:tab algn="l" pos="5433840"/>
                <a:tab algn="l" pos="5883120"/>
                <a:tab algn="l" pos="6332400"/>
                <a:tab algn="l" pos="6781680"/>
                <a:tab algn="l" pos="7230960"/>
                <a:tab algn="l" pos="7680240"/>
                <a:tab algn="l" pos="8129520"/>
                <a:tab algn="l" pos="8578800"/>
                <a:tab algn="l" pos="9028080"/>
                <a:tab algn="l" pos="947736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6000"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Text Box 1"/>
          <p:cNvSpPr/>
          <p:nvPr/>
        </p:nvSpPr>
        <p:spPr>
          <a:xfrm>
            <a:off x="720720" y="720720"/>
            <a:ext cx="7380360" cy="36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entury Schoolbook"/>
                <a:ea typeface="Arial Unicode MS"/>
              </a:rPr>
              <a:t>ВЫВОДЫ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entury Schoolbook"/>
              <a:buAutoNum type="arabicPeriod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В результате ограничения прослушивания громкой музыки 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     </a:t>
            </a:r>
            <a:r>
              <a:rPr b="0" lang="ru-RU" sz="18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работы        за компьютером улучшился сон у 30% учащихся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2.  Повысилось внимание и активизировалась учебная деятельность;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3. Снизилась доля конфликтов между учащимися на 20%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4. В течение зимних каникул 60% учащихся предпочли ежедневное    катание на коньках и лыжах ежедневному сидению у компьютера и    телевизора;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5. Провели беседу о негативном влиянии шума на учеников 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    </a:t>
            </a:r>
            <a:r>
              <a:rPr b="0" lang="ru-RU" sz="18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пропагандировали здоровый образ жизни в 4 начальных классах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7. После медицинского обследования 10%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    </a:t>
            </a:r>
            <a:r>
              <a:rPr b="0" lang="ru-RU" sz="18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девятиклассников получили рекомендаци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    </a:t>
            </a:r>
            <a:r>
              <a:rPr b="0" lang="ru-RU" sz="18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по лечению и восстановлению слух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Arial Unicode M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28" name="Picture 2" descr=""/>
          <p:cNvPicPr/>
          <p:nvPr/>
        </p:nvPicPr>
        <p:blipFill>
          <a:blip r:embed="rId1"/>
          <a:stretch/>
        </p:blipFill>
        <p:spPr>
          <a:xfrm>
            <a:off x="6227640" y="4797360"/>
            <a:ext cx="2232000" cy="151128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Text Box 1"/>
          <p:cNvSpPr/>
          <p:nvPr/>
        </p:nvSpPr>
        <p:spPr>
          <a:xfrm>
            <a:off x="457200" y="272880"/>
            <a:ext cx="7466040" cy="11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  <a:ea typeface="Arial Unicode MS"/>
              </a:rPr>
              <a:t>ЧЕЛОВЕК !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Text Box 2"/>
          <p:cNvSpPr/>
          <p:nvPr/>
        </p:nvSpPr>
        <p:spPr>
          <a:xfrm>
            <a:off x="457200" y="1600200"/>
            <a:ext cx="7466040" cy="48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  <a:ea typeface="Arial Unicode MS"/>
              </a:rPr>
              <a:t>Здоровье, столь мало уважаемое в юных летах, делается в летах зрелости истинным благом; самое чувство жизни бывает гораздо милее тогда, когда уже пролетела ее быстрая половина.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  <a:ea typeface="Arial Unicode MS"/>
              </a:rPr>
              <a:t>                                                                     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  <a:ea typeface="Arial Unicode MS"/>
              </a:rPr>
              <a:t>Н.М.Карамзин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  <a:ea typeface="Arial Unicode MS"/>
              </a:rPr>
              <a:t>Здоровье никогда не может потерять своей цены в глазах человека, потому что и в довольстве и в роскоши плохо жить без здоровья.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  <a:ea typeface="Arial Unicode MS"/>
              </a:rPr>
              <a:t>                                                            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  <a:ea typeface="Arial Unicode MS"/>
              </a:rPr>
              <a:t>Н.Г.Чернышевский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  <a:ea typeface="Arial Unicode MS"/>
              </a:rPr>
              <a:t>Берегите уши!  Будьте здоровы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  <a:ea typeface="Arial Unicode MS"/>
              </a:rPr>
              <a:t>   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  <a:ea typeface="Arial Unicode MS"/>
              </a:rPr>
              <a:t>Удачи</a:t>
            </a:r>
            <a:r>
              <a:rPr b="0" lang="ru-RU" sz="2400" spc="-1" strike="noStrike">
                <a:solidFill>
                  <a:srgbClr val="3333cc"/>
                </a:solidFill>
                <a:latin typeface="Century Schoolbook"/>
                <a:ea typeface="Arial Unicode MS"/>
              </a:rPr>
              <a:t>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31" name="Picture 3" descr=""/>
          <p:cNvPicPr/>
          <p:nvPr/>
        </p:nvPicPr>
        <p:blipFill>
          <a:blip r:embed="rId1"/>
          <a:stretch/>
        </p:blipFill>
        <p:spPr>
          <a:xfrm>
            <a:off x="539640" y="4859280"/>
            <a:ext cx="1619280" cy="144000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4" descr=""/>
          <p:cNvPicPr/>
          <p:nvPr/>
        </p:nvPicPr>
        <p:blipFill>
          <a:blip r:embed="rId2"/>
          <a:stretch/>
        </p:blipFill>
        <p:spPr>
          <a:xfrm>
            <a:off x="6659640" y="539640"/>
            <a:ext cx="1800000" cy="144000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Text Box 1"/>
          <p:cNvSpPr/>
          <p:nvPr/>
        </p:nvSpPr>
        <p:spPr>
          <a:xfrm>
            <a:off x="457200" y="720720"/>
            <a:ext cx="74674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  <a:ea typeface="Arial Unicode MS"/>
              </a:rPr>
              <a:t>Используемая литература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Text Box 2"/>
          <p:cNvSpPr/>
          <p:nvPr/>
        </p:nvSpPr>
        <p:spPr>
          <a:xfrm>
            <a:off x="457200" y="1413000"/>
            <a:ext cx="7467480" cy="50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Font typeface="Wingdings" charset="2"/>
              <a:buChar char=""/>
              <a:tabLst>
                <a:tab algn="l" pos="235080"/>
                <a:tab algn="l" pos="682560"/>
                <a:tab algn="l" pos="1131840"/>
                <a:tab algn="l" pos="1581120"/>
                <a:tab algn="l" pos="2030400"/>
                <a:tab algn="l" pos="2479680"/>
                <a:tab algn="l" pos="2928960"/>
                <a:tab algn="l" pos="3378240"/>
                <a:tab algn="l" pos="3827520"/>
                <a:tab algn="l" pos="4276800"/>
                <a:tab algn="l" pos="4726080"/>
                <a:tab algn="l" pos="5175360"/>
                <a:tab algn="l" pos="5624640"/>
                <a:tab algn="l" pos="6073920"/>
                <a:tab algn="l" pos="6523200"/>
                <a:tab algn="l" pos="6972480"/>
                <a:tab algn="l" pos="7421400"/>
                <a:tab algn="l" pos="7870680"/>
                <a:tab algn="l" pos="8319960"/>
                <a:tab algn="l" pos="8769240"/>
                <a:tab algn="l" pos="9218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  <a:ea typeface="Arial Unicode MS"/>
              </a:rPr>
              <a:t>Использование коммуникативных средств при выполнении проектов как фактор формирования социальной компетентности педагога и учащихся. -Саратов: ИЦ «РАТА», 2009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35080" indent="-2350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Font typeface="Wingdings" charset="2"/>
              <a:buChar char=""/>
              <a:tabLst>
                <a:tab algn="l" pos="235080"/>
                <a:tab algn="l" pos="682560"/>
                <a:tab algn="l" pos="1131840"/>
                <a:tab algn="l" pos="1581120"/>
                <a:tab algn="l" pos="2030400"/>
                <a:tab algn="l" pos="2479680"/>
                <a:tab algn="l" pos="2928960"/>
                <a:tab algn="l" pos="3378240"/>
                <a:tab algn="l" pos="3827520"/>
                <a:tab algn="l" pos="4276800"/>
                <a:tab algn="l" pos="4726080"/>
                <a:tab algn="l" pos="5175360"/>
                <a:tab algn="l" pos="5624640"/>
                <a:tab algn="l" pos="6073920"/>
                <a:tab algn="l" pos="6523200"/>
                <a:tab algn="l" pos="6972480"/>
                <a:tab algn="l" pos="7421400"/>
                <a:tab algn="l" pos="7870680"/>
                <a:tab algn="l" pos="8319960"/>
                <a:tab algn="l" pos="8769240"/>
                <a:tab algn="l" pos="9218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  <a:ea typeface="Arial Unicode MS"/>
              </a:rPr>
              <a:t>ОБЖ, 9 класс, поурочное планирование.-Волгоград: Учитель,2007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35080" indent="-2350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Font typeface="Wingdings" charset="2"/>
              <a:buChar char=""/>
              <a:tabLst>
                <a:tab algn="l" pos="235080"/>
                <a:tab algn="l" pos="682560"/>
                <a:tab algn="l" pos="1131840"/>
                <a:tab algn="l" pos="1581120"/>
                <a:tab algn="l" pos="2030400"/>
                <a:tab algn="l" pos="2479680"/>
                <a:tab algn="l" pos="2928960"/>
                <a:tab algn="l" pos="3378240"/>
                <a:tab algn="l" pos="3827520"/>
                <a:tab algn="l" pos="4276800"/>
                <a:tab algn="l" pos="4726080"/>
                <a:tab algn="l" pos="5175360"/>
                <a:tab algn="l" pos="5624640"/>
                <a:tab algn="l" pos="6073920"/>
                <a:tab algn="l" pos="6523200"/>
                <a:tab algn="l" pos="6972480"/>
                <a:tab algn="l" pos="7421400"/>
                <a:tab algn="l" pos="7870680"/>
                <a:tab algn="l" pos="8319960"/>
                <a:tab algn="l" pos="8769240"/>
                <a:tab algn="l" pos="9218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  <a:ea typeface="Arial Unicode MS"/>
              </a:rPr>
              <a:t>Материалы Интернет с сайта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  <a:ea typeface="Arial Unicode MS"/>
              </a:rPr>
              <a:t> mhtvl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  <a:ea typeface="Arial Unicode MS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  <a:ea typeface="Arial Unicode MS"/>
              </a:rPr>
              <a:t>file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  <a:ea typeface="Arial Unicode MS"/>
              </a:rPr>
              <a:t>://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35080" indent="-2350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Font typeface="Wingdings" charset="2"/>
              <a:buChar char=""/>
              <a:tabLst>
                <a:tab algn="l" pos="235080"/>
                <a:tab algn="l" pos="682560"/>
                <a:tab algn="l" pos="1131840"/>
                <a:tab algn="l" pos="1581120"/>
                <a:tab algn="l" pos="2030400"/>
                <a:tab algn="l" pos="2479680"/>
                <a:tab algn="l" pos="2928960"/>
                <a:tab algn="l" pos="3378240"/>
                <a:tab algn="l" pos="3827520"/>
                <a:tab algn="l" pos="4276800"/>
                <a:tab algn="l" pos="4726080"/>
                <a:tab algn="l" pos="5175360"/>
                <a:tab algn="l" pos="5624640"/>
                <a:tab algn="l" pos="6073920"/>
                <a:tab algn="l" pos="6523200"/>
                <a:tab algn="l" pos="6972480"/>
                <a:tab algn="l" pos="7421400"/>
                <a:tab algn="l" pos="7870680"/>
                <a:tab algn="l" pos="8319960"/>
                <a:tab algn="l" pos="8769240"/>
                <a:tab algn="l" pos="9218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  <a:ea typeface="Arial Unicode MS"/>
              </a:rPr>
              <a:t>Селиверстова Д.Н., Селиверстова В.В., Селиверстов В.Н.Формула здоровья.- Волгоград: Зацарицынский вестник, 1995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35080" indent="-2350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Font typeface="Wingdings" charset="2"/>
              <a:buChar char=""/>
              <a:tabLst>
                <a:tab algn="l" pos="235080"/>
                <a:tab algn="l" pos="682560"/>
                <a:tab algn="l" pos="1131840"/>
                <a:tab algn="l" pos="1581120"/>
                <a:tab algn="l" pos="2030400"/>
                <a:tab algn="l" pos="2479680"/>
                <a:tab algn="l" pos="2928960"/>
                <a:tab algn="l" pos="3378240"/>
                <a:tab algn="l" pos="3827520"/>
                <a:tab algn="l" pos="4276800"/>
                <a:tab algn="l" pos="4726080"/>
                <a:tab algn="l" pos="5175360"/>
                <a:tab algn="l" pos="5624640"/>
                <a:tab algn="l" pos="6073920"/>
                <a:tab algn="l" pos="6523200"/>
                <a:tab algn="l" pos="6972480"/>
                <a:tab algn="l" pos="7421400"/>
                <a:tab algn="l" pos="7870680"/>
                <a:tab algn="l" pos="8319960"/>
                <a:tab algn="l" pos="8769240"/>
                <a:tab algn="l" pos="9218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  <a:ea typeface="Arial Unicode MS"/>
              </a:rPr>
              <a:t>Ильичев А.А. Популярная энциклопедия для выживания подростков.-М:ЭКСМО-Пресс,2002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35080" indent="-2350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Font typeface="Wingdings" charset="2"/>
              <a:buChar char=""/>
              <a:tabLst>
                <a:tab algn="l" pos="235080"/>
                <a:tab algn="l" pos="682560"/>
                <a:tab algn="l" pos="1131840"/>
                <a:tab algn="l" pos="1581120"/>
                <a:tab algn="l" pos="2030400"/>
                <a:tab algn="l" pos="2479680"/>
                <a:tab algn="l" pos="2928960"/>
                <a:tab algn="l" pos="3378240"/>
                <a:tab algn="l" pos="3827520"/>
                <a:tab algn="l" pos="4276800"/>
                <a:tab algn="l" pos="4726080"/>
                <a:tab algn="l" pos="5175360"/>
                <a:tab algn="l" pos="5624640"/>
                <a:tab algn="l" pos="6073920"/>
                <a:tab algn="l" pos="6523200"/>
                <a:tab algn="l" pos="6972480"/>
                <a:tab algn="l" pos="7421400"/>
                <a:tab algn="l" pos="7870680"/>
                <a:tab algn="l" pos="8319960"/>
                <a:tab algn="l" pos="8769240"/>
                <a:tab algn="l" pos="9218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  <a:ea typeface="Arial Unicode MS"/>
              </a:rPr>
              <a:t>Колесов Д.В. Учебник «Биология», 8 класс,2009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35" name="Picture 3" descr=""/>
          <p:cNvPicPr/>
          <p:nvPr/>
        </p:nvPicPr>
        <p:blipFill>
          <a:blip r:embed="rId1"/>
          <a:stretch/>
        </p:blipFill>
        <p:spPr>
          <a:xfrm>
            <a:off x="6673680" y="4881600"/>
            <a:ext cx="1785960" cy="141768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strips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Text Box 1"/>
          <p:cNvSpPr/>
          <p:nvPr/>
        </p:nvSpPr>
        <p:spPr>
          <a:xfrm>
            <a:off x="671400" y="635040"/>
            <a:ext cx="7790040" cy="11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95" name="Picture 2" descr=""/>
          <p:cNvPicPr/>
          <p:nvPr/>
        </p:nvPicPr>
        <p:blipFill>
          <a:blip r:embed="rId1"/>
          <a:stretch/>
        </p:blipFill>
        <p:spPr>
          <a:xfrm>
            <a:off x="539640" y="4316400"/>
            <a:ext cx="3421080" cy="198432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3" descr=""/>
          <p:cNvPicPr/>
          <p:nvPr/>
        </p:nvPicPr>
        <p:blipFill>
          <a:blip r:embed="rId2"/>
          <a:stretch/>
        </p:blipFill>
        <p:spPr>
          <a:xfrm>
            <a:off x="539640" y="2160720"/>
            <a:ext cx="3419640" cy="1979640"/>
          </a:xfrm>
          <a:prstGeom prst="rect">
            <a:avLst/>
          </a:prstGeom>
          <a:ln w="0">
            <a:noFill/>
          </a:ln>
        </p:spPr>
      </p:pic>
      <p:sp>
        <p:nvSpPr>
          <p:cNvPr id="397" name="Text Box 4"/>
          <p:cNvSpPr/>
          <p:nvPr/>
        </p:nvSpPr>
        <p:spPr>
          <a:xfrm>
            <a:off x="720720" y="720720"/>
            <a:ext cx="7559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Schoolbook"/>
                <a:ea typeface="Arial Unicode MS"/>
              </a:rPr>
              <a:t>Обоснование выбора темы проект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8240" cy="113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Обоснование выбора темы проекта 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99" name="Text Box 6"/>
          <p:cNvSpPr/>
          <p:nvPr/>
        </p:nvSpPr>
        <p:spPr>
          <a:xfrm>
            <a:off x="4319640" y="2340000"/>
            <a:ext cx="4140000" cy="37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Негативное влияние шума сказывается на органах слуха, сердечно-сосудистой системе, на работе печени, к истощению и перенапряжению нервных клеток, к изменениям в стволовых клетках. Ослабленные клетки нервной системы не могут достаточно четко координировать работу различных систем организма. Различные виды шумов приводят к развитию шумовой болезни.  Проведенные научные исследования показали, что у людей, находящихся в шумной обстановке,  в результате систематического воздействия шума, производительность труда падает на 10% и увеличивается заболеваемость на 30%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00" name="Picture 7" descr=""/>
          <p:cNvPicPr/>
          <p:nvPr/>
        </p:nvPicPr>
        <p:blipFill>
          <a:blip r:embed="rId3"/>
          <a:stretch/>
        </p:blipFill>
        <p:spPr>
          <a:xfrm>
            <a:off x="7020000" y="1260360"/>
            <a:ext cx="1218960" cy="117180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Text Box 1"/>
          <p:cNvSpPr/>
          <p:nvPr/>
        </p:nvSpPr>
        <p:spPr>
          <a:xfrm>
            <a:off x="457200" y="274680"/>
            <a:ext cx="6419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500" spc="-1" strike="noStrike">
                <a:solidFill>
                  <a:srgbClr val="000000"/>
                </a:solidFill>
                <a:latin typeface="Century Schoolbook"/>
                <a:ea typeface="Arial Unicode MS"/>
              </a:rPr>
              <a:t>ЦЕЛЬ ПРОЕКТА</a:t>
            </a:r>
            <a:endParaRPr b="0" lang="en-US" sz="5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Text Box 2"/>
          <p:cNvSpPr/>
          <p:nvPr/>
        </p:nvSpPr>
        <p:spPr>
          <a:xfrm>
            <a:off x="45720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spcBef>
                <a:spcPts val="601"/>
              </a:spcBef>
              <a:tabLst>
                <a:tab algn="l" pos="0"/>
                <a:tab algn="l" pos="235080"/>
                <a:tab algn="l" pos="682560"/>
                <a:tab algn="l" pos="1131840"/>
                <a:tab algn="l" pos="1581120"/>
                <a:tab algn="l" pos="2030400"/>
                <a:tab algn="l" pos="2479680"/>
                <a:tab algn="l" pos="2928960"/>
                <a:tab algn="l" pos="3378240"/>
                <a:tab algn="l" pos="3827520"/>
                <a:tab algn="l" pos="4276800"/>
                <a:tab algn="l" pos="4726080"/>
                <a:tab algn="l" pos="5175360"/>
                <a:tab algn="l" pos="5624640"/>
                <a:tab algn="l" pos="6073920"/>
                <a:tab algn="l" pos="6523200"/>
                <a:tab algn="l" pos="6972480"/>
                <a:tab algn="l" pos="7421400"/>
                <a:tab algn="l" pos="7870680"/>
                <a:tab algn="l" pos="8319960"/>
                <a:tab algn="l" pos="8769240"/>
                <a:tab algn="l" pos="9218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3668c4"/>
                </a:solidFill>
                <a:latin typeface="Times New Roman"/>
                <a:ea typeface="Arial Unicode MS"/>
              </a:rPr>
              <a:t>  </a:t>
            </a:r>
            <a:r>
              <a:rPr b="0" lang="ru-RU" sz="4000" spc="-1" strike="noStrike">
                <a:solidFill>
                  <a:srgbClr val="3668c4"/>
                </a:solidFill>
                <a:latin typeface="Times New Roman"/>
                <a:ea typeface="Arial Unicode MS"/>
              </a:rPr>
              <a:t>Разработать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235080" indent="-235080">
              <a:spcBef>
                <a:spcPts val="601"/>
              </a:spcBef>
              <a:tabLst>
                <a:tab algn="l" pos="0"/>
                <a:tab algn="l" pos="235080"/>
                <a:tab algn="l" pos="682560"/>
                <a:tab algn="l" pos="1131840"/>
                <a:tab algn="l" pos="1581120"/>
                <a:tab algn="l" pos="2030400"/>
                <a:tab algn="l" pos="2479680"/>
                <a:tab algn="l" pos="2928960"/>
                <a:tab algn="l" pos="3378240"/>
                <a:tab algn="l" pos="3827520"/>
                <a:tab algn="l" pos="4276800"/>
                <a:tab algn="l" pos="4726080"/>
                <a:tab algn="l" pos="5175360"/>
                <a:tab algn="l" pos="5624640"/>
                <a:tab algn="l" pos="6073920"/>
                <a:tab algn="l" pos="6523200"/>
                <a:tab algn="l" pos="6972480"/>
                <a:tab algn="l" pos="7421400"/>
                <a:tab algn="l" pos="7870680"/>
                <a:tab algn="l" pos="8319960"/>
                <a:tab algn="l" pos="8769240"/>
                <a:tab algn="l" pos="9218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3668c4"/>
                </a:solidFill>
                <a:latin typeface="Times New Roman"/>
                <a:ea typeface="Arial Unicode MS"/>
              </a:rPr>
              <a:t> </a:t>
            </a:r>
            <a:r>
              <a:rPr b="0" lang="en-US" sz="4000" spc="-1" strike="noStrike">
                <a:solidFill>
                  <a:srgbClr val="3668c4"/>
                </a:solidFill>
                <a:latin typeface="Times New Roman"/>
                <a:ea typeface="Arial Unicode MS"/>
              </a:rPr>
              <a:t> </a:t>
            </a:r>
            <a:r>
              <a:rPr b="0" lang="ru-RU" sz="4000" spc="-1" strike="noStrike">
                <a:solidFill>
                  <a:srgbClr val="3668c4"/>
                </a:solidFill>
                <a:latin typeface="Times New Roman"/>
                <a:ea typeface="Arial Unicode MS"/>
              </a:rPr>
              <a:t>рекомендации по защите от </a:t>
            </a:r>
            <a:r>
              <a:rPr b="0" lang="en-US" sz="4000" spc="-1" strike="noStrike">
                <a:solidFill>
                  <a:srgbClr val="3668c4"/>
                </a:solidFill>
                <a:latin typeface="Times New Roman"/>
                <a:ea typeface="Arial Unicode MS"/>
              </a:rPr>
              <a:t> </a:t>
            </a:r>
            <a:r>
              <a:rPr b="0" lang="ru-RU" sz="4000" spc="-1" strike="noStrike">
                <a:solidFill>
                  <a:srgbClr val="3668c4"/>
                </a:solidFill>
                <a:latin typeface="Times New Roman"/>
                <a:ea typeface="Arial Unicode MS"/>
              </a:rPr>
              <a:t>        </a:t>
            </a:r>
            <a:r>
              <a:rPr b="0" lang="en-US" sz="4000" spc="-1" strike="noStrike">
                <a:solidFill>
                  <a:srgbClr val="3668c4"/>
                </a:solidFill>
                <a:latin typeface="Times New Roman"/>
                <a:ea typeface="Arial Unicode MS"/>
              </a:rPr>
              <a:t>    </a:t>
            </a:r>
            <a:r>
              <a:rPr b="0" lang="ru-RU" sz="4000" spc="-1" strike="noStrike">
                <a:solidFill>
                  <a:srgbClr val="3668c4"/>
                </a:solidFill>
                <a:latin typeface="Times New Roman"/>
                <a:ea typeface="Arial Unicode MS"/>
              </a:rPr>
              <a:t>негативного воздействия шума   на организм человека;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03" name="Picture 3" descr=""/>
          <p:cNvPicPr/>
          <p:nvPr/>
        </p:nvPicPr>
        <p:blipFill>
          <a:blip r:embed="rId1"/>
          <a:stretch/>
        </p:blipFill>
        <p:spPr>
          <a:xfrm>
            <a:off x="6588000" y="189000"/>
            <a:ext cx="2086200" cy="235728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4" descr=""/>
          <p:cNvPicPr/>
          <p:nvPr/>
        </p:nvPicPr>
        <p:blipFill>
          <a:blip r:embed="rId2"/>
          <a:stretch/>
        </p:blipFill>
        <p:spPr>
          <a:xfrm>
            <a:off x="1779480" y="4319640"/>
            <a:ext cx="2000520" cy="192888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Text Box 1"/>
          <p:cNvSpPr/>
          <p:nvPr/>
        </p:nvSpPr>
        <p:spPr>
          <a:xfrm>
            <a:off x="457200" y="274680"/>
            <a:ext cx="613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entury Schoolbook"/>
                <a:ea typeface="Arial Unicode MS"/>
              </a:rPr>
              <a:t>ЗАДАЧИ ПРОЕКТА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Text Box 2"/>
          <p:cNvSpPr/>
          <p:nvPr/>
        </p:nvSpPr>
        <p:spPr>
          <a:xfrm>
            <a:off x="395280" y="1628640"/>
            <a:ext cx="8115480" cy="48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3668c4"/>
                </a:solidFill>
                <a:latin typeface="Times New Roman"/>
                <a:ea typeface="Arial Unicode MS"/>
              </a:rPr>
              <a:t>1.Выяснить, что такое шум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3668c4"/>
                </a:solidFill>
                <a:latin typeface="Times New Roman"/>
                <a:ea typeface="Arial Unicode MS"/>
              </a:rPr>
              <a:t>2.Выявить источники шума в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3668c4"/>
                </a:solidFill>
                <a:latin typeface="Times New Roman"/>
                <a:ea typeface="Arial Unicode MS"/>
              </a:rPr>
              <a:t>   </a:t>
            </a:r>
            <a:r>
              <a:rPr b="0" lang="ru-RU" sz="3200" spc="-1" strike="noStrike">
                <a:solidFill>
                  <a:srgbClr val="3668c4"/>
                </a:solidFill>
                <a:latin typeface="Times New Roman"/>
                <a:ea typeface="Arial Unicode MS"/>
              </a:rPr>
              <a:t>окружающей среде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3668c4"/>
                </a:solidFill>
                <a:latin typeface="Times New Roman"/>
                <a:ea typeface="Arial Unicode MS"/>
              </a:rPr>
              <a:t>3.Выявить опасный предел шума дл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3668c4"/>
                </a:solidFill>
                <a:latin typeface="Times New Roman"/>
                <a:ea typeface="Arial Unicode MS"/>
              </a:rPr>
              <a:t>   </a:t>
            </a:r>
            <a:r>
              <a:rPr b="0" lang="ru-RU" sz="3200" spc="-1" strike="noStrike">
                <a:solidFill>
                  <a:srgbClr val="3668c4"/>
                </a:solidFill>
                <a:latin typeface="Times New Roman"/>
                <a:ea typeface="Arial Unicode MS"/>
              </a:rPr>
              <a:t>восприятия человек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3668c4"/>
                </a:solidFill>
                <a:latin typeface="Times New Roman"/>
                <a:ea typeface="Arial Unicode MS"/>
              </a:rPr>
              <a:t>4.Рекомендовать способы защиты о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3668c4"/>
                </a:solidFill>
                <a:latin typeface="Times New Roman"/>
                <a:ea typeface="Arial Unicode MS"/>
              </a:rPr>
              <a:t>   </a:t>
            </a:r>
            <a:r>
              <a:rPr b="0" lang="ru-RU" sz="3200" spc="-1" strike="noStrike">
                <a:solidFill>
                  <a:srgbClr val="3668c4"/>
                </a:solidFill>
                <a:latin typeface="Times New Roman"/>
                <a:ea typeface="Arial Unicode MS"/>
              </a:rPr>
              <a:t>шум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07" name="Picture 3" descr=""/>
          <p:cNvPicPr/>
          <p:nvPr/>
        </p:nvPicPr>
        <p:blipFill>
          <a:blip r:embed="rId1"/>
          <a:stretch/>
        </p:blipFill>
        <p:spPr>
          <a:xfrm>
            <a:off x="6300720" y="1440000"/>
            <a:ext cx="1643040" cy="171432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Text Box 1"/>
          <p:cNvSpPr/>
          <p:nvPr/>
        </p:nvSpPr>
        <p:spPr>
          <a:xfrm>
            <a:off x="1619280" y="189000"/>
            <a:ext cx="703584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entury Schoolbook"/>
                <a:ea typeface="Arial Unicode MS"/>
              </a:rPr>
              <a:t>КРИТЕРИИ ПРОЕКТА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Text Box 2"/>
          <p:cNvSpPr/>
          <p:nvPr/>
        </p:nvSpPr>
        <p:spPr>
          <a:xfrm>
            <a:off x="235080" y="1481040"/>
            <a:ext cx="9001080" cy="444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3668c4"/>
                </a:solidFill>
                <a:latin typeface="Times New Roman"/>
                <a:ea typeface="Arial Unicode MS"/>
              </a:rPr>
              <a:t>      </a:t>
            </a:r>
            <a:r>
              <a:rPr b="0" lang="ru-RU" sz="4000" spc="-1" strike="noStrike">
                <a:solidFill>
                  <a:srgbClr val="3668c4"/>
                </a:solidFill>
                <a:latin typeface="Times New Roman"/>
                <a:ea typeface="Arial Unicode MS"/>
              </a:rPr>
              <a:t>1.     Красочность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3668c4"/>
                </a:solidFill>
                <a:latin typeface="Times New Roman"/>
                <a:ea typeface="Arial Unicode MS"/>
              </a:rPr>
              <a:t>      </a:t>
            </a:r>
            <a:r>
              <a:rPr b="0" lang="ru-RU" sz="4000" spc="-1" strike="noStrike">
                <a:solidFill>
                  <a:srgbClr val="3668c4"/>
                </a:solidFill>
                <a:latin typeface="Times New Roman"/>
                <a:ea typeface="Arial Unicode MS"/>
              </a:rPr>
              <a:t>2.     Доступность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3668c4"/>
                </a:solidFill>
                <a:latin typeface="Times New Roman"/>
                <a:ea typeface="Arial Unicode MS"/>
              </a:rPr>
              <a:t>              </a:t>
            </a:r>
            <a:r>
              <a:rPr b="0" lang="ru-RU" sz="4000" spc="-1" strike="noStrike">
                <a:solidFill>
                  <a:srgbClr val="3668c4"/>
                </a:solidFill>
                <a:latin typeface="Times New Roman"/>
                <a:ea typeface="Arial Unicode MS"/>
              </a:rPr>
              <a:t>изложения материала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3668c4"/>
                </a:solidFill>
                <a:latin typeface="Times New Roman"/>
                <a:ea typeface="Arial Unicode MS"/>
              </a:rPr>
              <a:t>      </a:t>
            </a:r>
            <a:r>
              <a:rPr b="0" lang="ru-RU" sz="4000" spc="-1" strike="noStrike">
                <a:solidFill>
                  <a:srgbClr val="3668c4"/>
                </a:solidFill>
                <a:latin typeface="Times New Roman"/>
                <a:ea typeface="Arial Unicode MS"/>
              </a:rPr>
              <a:t>3.     Информативность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3668c4"/>
                </a:solidFill>
                <a:latin typeface="Times New Roman"/>
                <a:ea typeface="Arial Unicode MS"/>
              </a:rPr>
              <a:t>      </a:t>
            </a:r>
            <a:r>
              <a:rPr b="0" lang="ru-RU" sz="4000" spc="-1" strike="noStrike">
                <a:solidFill>
                  <a:srgbClr val="3668c4"/>
                </a:solidFill>
                <a:latin typeface="Times New Roman"/>
                <a:ea typeface="Arial Unicode MS"/>
              </a:rPr>
              <a:t>4.     Достоверность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3668c4"/>
                </a:solidFill>
                <a:latin typeface="Times New Roman"/>
                <a:ea typeface="Arial Unicode MS"/>
              </a:rPr>
              <a:t>     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10" name="Picture 3" descr=""/>
          <p:cNvPicPr/>
          <p:nvPr/>
        </p:nvPicPr>
        <p:blipFill>
          <a:blip r:embed="rId1"/>
          <a:stretch/>
        </p:blipFill>
        <p:spPr>
          <a:xfrm>
            <a:off x="480960" y="5040360"/>
            <a:ext cx="1859040" cy="146376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4" descr=""/>
          <p:cNvPicPr/>
          <p:nvPr/>
        </p:nvPicPr>
        <p:blipFill>
          <a:blip r:embed="rId2"/>
          <a:stretch/>
        </p:blipFill>
        <p:spPr>
          <a:xfrm>
            <a:off x="5425920" y="4500720"/>
            <a:ext cx="3033720" cy="180000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5" descr=""/>
          <p:cNvPicPr/>
          <p:nvPr/>
        </p:nvPicPr>
        <p:blipFill>
          <a:blip r:embed="rId3"/>
          <a:stretch/>
        </p:blipFill>
        <p:spPr>
          <a:xfrm>
            <a:off x="5265720" y="1265400"/>
            <a:ext cx="3193920" cy="179532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Text Box 1"/>
          <p:cNvSpPr/>
          <p:nvPr/>
        </p:nvSpPr>
        <p:spPr>
          <a:xfrm>
            <a:off x="428760" y="735120"/>
            <a:ext cx="7920000" cy="613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Что такое шум 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  </a:t>
            </a:r>
            <a:r>
              <a:rPr b="0" lang="ru-RU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Шум — беспорядочное сочетание различных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     </a:t>
            </a:r>
            <a:r>
              <a:rPr b="0" lang="ru-RU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по</a:t>
            </a:r>
            <a:r>
              <a:rPr b="0" lang="en-US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 </a:t>
            </a:r>
            <a:r>
              <a:rPr b="0" lang="ru-RU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   силе и частоте звуков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  </a:t>
            </a:r>
            <a:r>
              <a:rPr b="0" lang="ru-RU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Шум — громкие звуки, слившиеся в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     </a:t>
            </a:r>
            <a:r>
              <a:rPr b="0" lang="ru-RU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нестройное    звучание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  </a:t>
            </a:r>
            <a:r>
              <a:rPr b="0" lang="ru-RU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Шум-явление всепроникающее и негативно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    </a:t>
            </a:r>
            <a:r>
              <a:rPr b="0" lang="ru-RU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воздействующее на организм человека в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    </a:t>
            </a:r>
            <a:r>
              <a:rPr b="0" lang="ru-RU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совокупности с другими факторами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    </a:t>
            </a:r>
            <a:r>
              <a:rPr b="0" lang="ru-RU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(вредными       примесями в воздухе и воде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    </a:t>
            </a:r>
            <a:r>
              <a:rPr b="0" lang="ru-RU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электромагнитным   излучением,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    </a:t>
            </a:r>
            <a:r>
              <a:rPr b="0" lang="ru-RU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напряженностью труда и т.д.).</a:t>
            </a:r>
            <a:r>
              <a:rPr b="0" lang="ru-RU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	</a:t>
            </a:r>
            <a:r>
              <a:rPr b="0" lang="ru-RU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	</a:t>
            </a:r>
            <a:r>
              <a:rPr b="0" lang="ru-RU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	</a:t>
            </a:r>
            <a:r>
              <a:rPr b="0" lang="ru-RU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	</a:t>
            </a:r>
            <a:r>
              <a:rPr b="0" lang="ru-RU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   </a:t>
            </a:r>
            <a:r>
              <a:rPr b="0" lang="ru-RU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	</a:t>
            </a:r>
            <a:r>
              <a:rPr b="0" lang="ru-RU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	</a:t>
            </a:r>
            <a:r>
              <a:rPr b="0" lang="ru-RU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	</a:t>
            </a:r>
            <a:r>
              <a:rPr b="0" lang="ru-RU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	</a:t>
            </a:r>
            <a:r>
              <a:rPr b="0" lang="ru-RU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	</a:t>
            </a:r>
            <a:r>
              <a:rPr b="0" lang="ru-RU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	</a:t>
            </a:r>
            <a:r>
              <a:rPr b="0" lang="ru-RU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	</a:t>
            </a:r>
            <a:r>
              <a:rPr b="0" lang="ru-RU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	</a:t>
            </a:r>
            <a:r>
              <a:rPr b="0" lang="ru-RU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	</a:t>
            </a:r>
            <a:r>
              <a:rPr b="0" lang="ru-RU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	</a:t>
            </a:r>
            <a:r>
              <a:rPr b="0" lang="ru-RU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	</a:t>
            </a:r>
            <a:r>
              <a:rPr b="0" lang="ru-RU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14" name="Picture 2" descr=""/>
          <p:cNvPicPr/>
          <p:nvPr/>
        </p:nvPicPr>
        <p:blipFill>
          <a:blip r:embed="rId1"/>
          <a:stretch/>
        </p:blipFill>
        <p:spPr>
          <a:xfrm>
            <a:off x="6450120" y="720720"/>
            <a:ext cx="2009520" cy="107964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Picture 1" descr=""/>
          <p:cNvPicPr/>
          <p:nvPr/>
        </p:nvPicPr>
        <p:blipFill>
          <a:blip r:embed="rId1"/>
          <a:stretch/>
        </p:blipFill>
        <p:spPr>
          <a:xfrm>
            <a:off x="5219640" y="4140360"/>
            <a:ext cx="3060720" cy="2160360"/>
          </a:xfrm>
          <a:prstGeom prst="rect">
            <a:avLst/>
          </a:prstGeom>
          <a:ln w="0">
            <a:noFill/>
          </a:ln>
        </p:spPr>
      </p:pic>
      <p:sp>
        <p:nvSpPr>
          <p:cNvPr id="416" name="Text Box 2"/>
          <p:cNvSpPr/>
          <p:nvPr/>
        </p:nvSpPr>
        <p:spPr>
          <a:xfrm>
            <a:off x="539640" y="549360"/>
            <a:ext cx="7666200" cy="575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entury Schoolbook"/>
                <a:ea typeface="Arial Unicode MS"/>
              </a:rPr>
              <a:t>Источники шума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2323dc"/>
                </a:solidFill>
                <a:latin typeface="Century Schoolbook"/>
                <a:ea typeface="Arial Unicode MS"/>
              </a:rPr>
              <a:t> </a:t>
            </a:r>
            <a:r>
              <a:rPr b="0" lang="ru-RU" sz="2800" spc="-1" strike="noStrike">
                <a:solidFill>
                  <a:srgbClr val="2323dc"/>
                </a:solidFill>
                <a:latin typeface="Century Schoolbook"/>
                <a:ea typeface="Arial Unicode MS"/>
              </a:rPr>
              <a:t>Работа бытовых приборов: телевизор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2323dc"/>
                </a:solidFill>
                <a:latin typeface="Century Schoolbook"/>
                <a:ea typeface="Arial Unicode MS"/>
              </a:rPr>
              <a:t>   </a:t>
            </a:r>
            <a:r>
              <a:rPr b="0" lang="ru-RU" sz="2800" spc="-1" strike="noStrike">
                <a:solidFill>
                  <a:srgbClr val="2323dc"/>
                </a:solidFill>
                <a:latin typeface="Century Schoolbook"/>
                <a:ea typeface="Arial Unicode MS"/>
              </a:rPr>
              <a:t>магнитофон, стиральная машина, радио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2323dc"/>
                </a:solidFill>
                <a:latin typeface="Century Schoolbook"/>
                <a:ea typeface="Arial Unicode MS"/>
              </a:rPr>
              <a:t>   </a:t>
            </a:r>
            <a:r>
              <a:rPr b="0" lang="ru-RU" sz="2800" spc="-1" strike="noStrike">
                <a:solidFill>
                  <a:srgbClr val="2323dc"/>
                </a:solidFill>
                <a:latin typeface="Century Schoolbook"/>
                <a:ea typeface="Arial Unicode MS"/>
              </a:rPr>
              <a:t>Транспорт железнодорожный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2323dc"/>
                </a:solidFill>
                <a:latin typeface="Century Schoolbook"/>
                <a:ea typeface="Arial Unicode MS"/>
              </a:rPr>
              <a:t>   </a:t>
            </a:r>
            <a:r>
              <a:rPr b="0" lang="ru-RU" sz="2800" spc="-1" strike="noStrike">
                <a:solidFill>
                  <a:srgbClr val="2323dc"/>
                </a:solidFill>
                <a:latin typeface="Century Schoolbook"/>
                <a:ea typeface="Arial Unicode MS"/>
              </a:rPr>
              <a:t>авиационный,    автомобильный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2323dc"/>
                </a:solidFill>
                <a:latin typeface="Century Schoolbook"/>
                <a:ea typeface="Arial Unicode MS"/>
              </a:rPr>
              <a:t> </a:t>
            </a:r>
            <a:r>
              <a:rPr b="0" lang="ru-RU" sz="2800" spc="-1" strike="noStrike">
                <a:solidFill>
                  <a:srgbClr val="2323dc"/>
                </a:solidFill>
                <a:latin typeface="Century Schoolbook"/>
                <a:ea typeface="Arial Unicode MS"/>
              </a:rPr>
              <a:t>Строительные работы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2323dc"/>
                </a:solidFill>
                <a:latin typeface="Century Schoolbook"/>
                <a:ea typeface="Arial Unicode MS"/>
              </a:rPr>
              <a:t> </a:t>
            </a:r>
            <a:r>
              <a:rPr b="0" lang="ru-RU" sz="2800" spc="-1" strike="noStrike">
                <a:solidFill>
                  <a:srgbClr val="2323dc"/>
                </a:solidFill>
                <a:latin typeface="Century Schoolbook"/>
                <a:ea typeface="Arial Unicode MS"/>
              </a:rPr>
              <a:t>Природные явления: гром, цунами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2323dc"/>
                </a:solidFill>
                <a:latin typeface="Century Schoolbook"/>
                <a:ea typeface="Arial Unicode MS"/>
              </a:rPr>
              <a:t>   </a:t>
            </a:r>
            <a:r>
              <a:rPr b="0" lang="ru-RU" sz="2800" spc="-1" strike="noStrike">
                <a:solidFill>
                  <a:srgbClr val="2323dc"/>
                </a:solidFill>
                <a:latin typeface="Century Schoolbook"/>
                <a:ea typeface="Arial Unicode MS"/>
              </a:rPr>
              <a:t>землетрясение, обвалы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2323dc"/>
                </a:solidFill>
                <a:latin typeface="Century Schoolbook"/>
                <a:ea typeface="Arial Unicode MS"/>
              </a:rPr>
              <a:t> </a:t>
            </a:r>
            <a:r>
              <a:rPr b="0" lang="ru-RU" sz="2800" spc="-1" strike="noStrike">
                <a:solidFill>
                  <a:srgbClr val="2323dc"/>
                </a:solidFill>
                <a:latin typeface="Century Schoolbook"/>
                <a:ea typeface="Arial Unicode MS"/>
              </a:rPr>
              <a:t>Музыка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2323dc"/>
                </a:solidFill>
                <a:latin typeface="Century Schoolbook"/>
                <a:ea typeface="Arial Unicode MS"/>
              </a:rPr>
              <a:t> </a:t>
            </a:r>
            <a:r>
              <a:rPr b="0" lang="ru-RU" sz="2800" spc="-1" strike="noStrike">
                <a:solidFill>
                  <a:srgbClr val="2323dc"/>
                </a:solidFill>
                <a:latin typeface="Century Schoolbook"/>
                <a:ea typeface="Arial Unicode MS"/>
              </a:rPr>
              <a:t>Шелест листвы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2323dc"/>
                </a:solidFill>
                <a:latin typeface="Century Schoolbook"/>
                <a:ea typeface="Arial Unicode MS"/>
              </a:rPr>
              <a:t> </a:t>
            </a:r>
            <a:r>
              <a:rPr b="0" lang="ru-RU" sz="2800" spc="-1" strike="noStrike">
                <a:solidFill>
                  <a:srgbClr val="2323dc"/>
                </a:solidFill>
                <a:latin typeface="Century Schoolbook"/>
                <a:ea typeface="Arial Unicode MS"/>
              </a:rPr>
              <a:t>Шепот, разговор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2323dc"/>
                </a:solidFill>
                <a:latin typeface="Century Schoolbook"/>
                <a:ea typeface="Arial Unicode MS"/>
              </a:rPr>
              <a:t> </a:t>
            </a:r>
            <a:r>
              <a:rPr b="0" lang="ru-RU" sz="2800" spc="-1" strike="noStrike">
                <a:solidFill>
                  <a:srgbClr val="2323dc"/>
                </a:solidFill>
                <a:latin typeface="Century Schoolbook"/>
                <a:ea typeface="Arial Unicode MS"/>
              </a:rPr>
              <a:t>Течение воды из крана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2323dc"/>
                </a:solidFill>
                <a:latin typeface="Century Schoolbook"/>
                <a:ea typeface="Arial Unicode MS"/>
              </a:rPr>
              <a:t> </a:t>
            </a:r>
            <a:r>
              <a:rPr b="0" lang="ru-RU" sz="2800" spc="-1" strike="noStrike">
                <a:solidFill>
                  <a:srgbClr val="2323dc"/>
                </a:solidFill>
                <a:latin typeface="Century Schoolbook"/>
                <a:ea typeface="Arial Unicode MS"/>
              </a:rPr>
              <a:t>Крики, визг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Text Box 3"/>
          <p:cNvSpPr/>
          <p:nvPr/>
        </p:nvSpPr>
        <p:spPr>
          <a:xfrm>
            <a:off x="130320" y="1440000"/>
            <a:ext cx="409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6000"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Text Box 1"/>
          <p:cNvSpPr/>
          <p:nvPr/>
        </p:nvSpPr>
        <p:spPr>
          <a:xfrm>
            <a:off x="900000" y="539640"/>
            <a:ext cx="7559640" cy="631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  <a:ea typeface="Arial Unicode MS"/>
              </a:rPr>
              <a:t>Физические характеристики шум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  <a:ea typeface="Arial Unicode MS"/>
              </a:rPr>
              <a:t>Уровень шума измеряется в единицах звукового давления — децибелах (дБ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 </a:t>
            </a:r>
            <a:r>
              <a:rPr b="0" lang="ru-RU" sz="2000" spc="-1" strike="noStrike">
                <a:solidFill>
                  <a:srgbClr val="ff0000"/>
                </a:solidFill>
                <a:latin typeface="Century Schoolbook"/>
                <a:ea typeface="Arial Unicode MS"/>
              </a:rPr>
              <a:t>Болевой порог  </a:t>
            </a:r>
            <a:r>
              <a:rPr b="0" lang="ru-RU" sz="20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                                                                160дБ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 </a:t>
            </a:r>
            <a:r>
              <a:rPr b="0" lang="ru-RU" sz="20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Ракетный двигатель                                                       </a:t>
            </a:r>
            <a:r>
              <a:rPr b="0" lang="ru-RU" sz="18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140дБ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Громкая музыка                                                               120дБ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 </a:t>
            </a:r>
            <a:r>
              <a:rPr b="0" lang="ru-RU" sz="20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Дробильная машина                                                       </a:t>
            </a:r>
            <a:r>
              <a:rPr b="0" lang="ru-RU" sz="18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110дБ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Пресс, метро                                                                     100дБ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entury Schoolbook"/>
                <a:ea typeface="Arial Unicode MS"/>
              </a:rPr>
              <a:t> </a:t>
            </a:r>
            <a:r>
              <a:rPr b="0" lang="ru-RU" sz="2000" spc="-1" strike="noStrike">
                <a:solidFill>
                  <a:srgbClr val="ff0000"/>
                </a:solidFill>
                <a:latin typeface="Century Schoolbook"/>
                <a:ea typeface="Arial Unicode MS"/>
              </a:rPr>
              <a:t>Уровень шума, вредный для слуха                                </a:t>
            </a:r>
            <a:r>
              <a:rPr b="0" lang="ru-RU" sz="20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90дБ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 </a:t>
            </a:r>
            <a:r>
              <a:rPr b="0" lang="ru-RU" sz="20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Товарный поезд(на расстоянии 33 м)                            80дБ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Пылесос (на  расстоянии 3м)                                            70дБ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 </a:t>
            </a:r>
            <a:r>
              <a:rPr b="0" lang="ru-RU" sz="20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Автомобильное движение на автостраде                       60дБ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 </a:t>
            </a:r>
            <a:r>
              <a:rPr b="0" lang="ru-RU" sz="20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Разговор                                                                              40дБ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 </a:t>
            </a:r>
            <a:r>
              <a:rPr b="0" lang="ru-RU" sz="20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Шелест листвы                                                                  10дБ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Громкий разговор в классе                                               40дБ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Хлопанье в ладоши на представлении                           88дБ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«Ура»- хором                                                                     100дБ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entury Schoolbook"/>
                <a:ea typeface="Arial Unicode MS"/>
              </a:rPr>
              <a:t>Девчачий визг                                                                  127дБ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6000"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Text Box 1"/>
          <p:cNvSpPr/>
          <p:nvPr/>
        </p:nvSpPr>
        <p:spPr>
          <a:xfrm>
            <a:off x="357120" y="539640"/>
            <a:ext cx="774072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entury Schoolbook"/>
                <a:ea typeface="Arial Unicode MS"/>
              </a:rPr>
              <a:t>Воздействие шума проявляетс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Text Box 2"/>
          <p:cNvSpPr/>
          <p:nvPr/>
        </p:nvSpPr>
        <p:spPr>
          <a:xfrm>
            <a:off x="1260360" y="1357200"/>
            <a:ext cx="2995560" cy="11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4700b8"/>
                </a:solidFill>
                <a:latin typeface="Century Schoolbook"/>
                <a:ea typeface="Arial Unicode MS"/>
              </a:rPr>
              <a:t> </a:t>
            </a:r>
            <a:r>
              <a:rPr b="0" lang="ru-RU" sz="1800" spc="-1" strike="noStrike">
                <a:solidFill>
                  <a:srgbClr val="4700b8"/>
                </a:solidFill>
                <a:latin typeface="Century Schoolbook"/>
                <a:ea typeface="Arial Unicode MS"/>
              </a:rPr>
              <a:t>На слуховой аппарат человека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4700b8"/>
                </a:solidFill>
                <a:latin typeface="Century Schoolbook"/>
                <a:ea typeface="Arial Unicode MS"/>
              </a:rPr>
              <a:t> </a:t>
            </a:r>
            <a:r>
              <a:rPr b="0" lang="ru-RU" sz="1800" spc="-1" strike="noStrike">
                <a:solidFill>
                  <a:srgbClr val="4700b8"/>
                </a:solidFill>
                <a:latin typeface="Century Schoolbook"/>
                <a:ea typeface="Arial Unicode MS"/>
              </a:rPr>
              <a:t>На нервную систему человека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4700b8"/>
                </a:solidFill>
                <a:latin typeface="Century Schoolbook"/>
                <a:ea typeface="Arial Unicode MS"/>
              </a:rPr>
              <a:t> </a:t>
            </a:r>
            <a:r>
              <a:rPr b="0" lang="ru-RU" sz="1800" spc="-1" strike="noStrike">
                <a:solidFill>
                  <a:srgbClr val="4700b8"/>
                </a:solidFill>
                <a:latin typeface="Century Schoolbook"/>
                <a:ea typeface="Arial Unicode MS"/>
              </a:rPr>
              <a:t>На сердечно-сосудистую систему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4700b8"/>
                </a:solidFill>
                <a:latin typeface="Century Schoolbook"/>
                <a:ea typeface="Arial Unicode MS"/>
              </a:rPr>
              <a:t> </a:t>
            </a:r>
            <a:r>
              <a:rPr b="0" lang="ru-RU" sz="1800" spc="-1" strike="noStrike">
                <a:solidFill>
                  <a:srgbClr val="4700b8"/>
                </a:solidFill>
                <a:latin typeface="Century Schoolbook"/>
                <a:ea typeface="Arial Unicode MS"/>
              </a:rPr>
              <a:t>На репродуктивную функцию человека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Text Box 3"/>
          <p:cNvSpPr/>
          <p:nvPr/>
        </p:nvSpPr>
        <p:spPr>
          <a:xfrm>
            <a:off x="3357720" y="2500200"/>
            <a:ext cx="5400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Arial Unicode MS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Century Schoolbook"/>
                <a:ea typeface="Arial Unicode MS"/>
              </a:rPr>
              <a:t>Человек</a:t>
            </a:r>
            <a:r>
              <a:rPr b="0" lang="ru-RU" sz="4000" spc="-1" strike="noStrike">
                <a:solidFill>
                  <a:srgbClr val="000000"/>
                </a:solidFill>
                <a:latin typeface="Century Schoolbook"/>
                <a:ea typeface="Arial Unicode MS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Text Box 4"/>
          <p:cNvSpPr/>
          <p:nvPr/>
        </p:nvSpPr>
        <p:spPr>
          <a:xfrm>
            <a:off x="2571840" y="3143160"/>
            <a:ext cx="5759280" cy="32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Arial Unicode MS"/>
              </a:rPr>
              <a:t>            </a:t>
            </a:r>
            <a:r>
              <a:rPr b="1" lang="ru-RU" sz="1800" spc="-1" strike="noStrike">
                <a:solidFill>
                  <a:srgbClr val="000000"/>
                </a:solidFill>
                <a:latin typeface="Century Schoolbook"/>
                <a:ea typeface="Arial Unicode MS"/>
              </a:rPr>
              <a:t>Становитс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4700b8"/>
                </a:solidFill>
                <a:latin typeface="Century Schoolbook"/>
                <a:ea typeface="Arial Unicode MS"/>
              </a:rPr>
              <a:t>  </a:t>
            </a:r>
            <a:r>
              <a:rPr b="0" lang="ru-RU" sz="1800" spc="-1" strike="noStrike">
                <a:solidFill>
                  <a:srgbClr val="4700b8"/>
                </a:solidFill>
                <a:latin typeface="Century Schoolbook"/>
                <a:ea typeface="Arial Unicode MS"/>
              </a:rPr>
              <a:t>Раздражительным, нервным, слабым,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4700b8"/>
                </a:solidFill>
                <a:latin typeface="Century Schoolbook"/>
                <a:ea typeface="Arial Unicode MS"/>
              </a:rPr>
              <a:t>    </a:t>
            </a:r>
            <a:r>
              <a:rPr b="0" lang="ru-RU" sz="1800" spc="-1" strike="noStrike">
                <a:solidFill>
                  <a:srgbClr val="4700b8"/>
                </a:solidFill>
                <a:latin typeface="Century Schoolbook"/>
                <a:ea typeface="Arial Unicode MS"/>
              </a:rPr>
              <a:t>забывчивым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4700b8"/>
                </a:solidFill>
                <a:latin typeface="Century Schoolbook"/>
                <a:ea typeface="Arial Unicode MS"/>
              </a:rPr>
              <a:t> </a:t>
            </a:r>
            <a:r>
              <a:rPr b="0" lang="ru-RU" sz="1800" spc="-1" strike="noStrike">
                <a:solidFill>
                  <a:srgbClr val="4700b8"/>
                </a:solidFill>
                <a:latin typeface="Century Schoolbook"/>
                <a:ea typeface="Arial Unicode MS"/>
              </a:rPr>
              <a:t>Тревожным, испуганным, плохо видит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4700b8"/>
                </a:solidFill>
                <a:latin typeface="Century Schoolbook"/>
                <a:ea typeface="Arial Unicode MS"/>
              </a:rPr>
              <a:t>   </a:t>
            </a:r>
            <a:r>
              <a:rPr b="0" lang="ru-RU" sz="1800" spc="-1" strike="noStrike">
                <a:solidFill>
                  <a:srgbClr val="4700b8"/>
                </a:solidFill>
                <a:latin typeface="Century Schoolbook"/>
                <a:ea typeface="Arial Unicode MS"/>
              </a:rPr>
              <a:t>ухудшается  интеллектуальная деятельность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4700b8"/>
                </a:solidFill>
                <a:latin typeface="Century Schoolbook"/>
                <a:ea typeface="Arial Unicode MS"/>
              </a:rPr>
              <a:t>  </a:t>
            </a:r>
            <a:r>
              <a:rPr b="0" lang="ru-RU" sz="1800" spc="-1" strike="noStrike">
                <a:solidFill>
                  <a:srgbClr val="4700b8"/>
                </a:solidFill>
                <a:latin typeface="Century Schoolbook"/>
                <a:ea typeface="Arial Unicode MS"/>
              </a:rPr>
              <a:t>Быстро утомляемым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Arial Unicode MS"/>
              </a:rPr>
              <a:t>               </a:t>
            </a:r>
            <a:r>
              <a:rPr b="1" lang="ru-RU" sz="1800" spc="-1" strike="noStrike">
                <a:solidFill>
                  <a:srgbClr val="000000"/>
                </a:solidFill>
                <a:latin typeface="Century Schoolbook"/>
                <a:ea typeface="Arial Unicode MS"/>
              </a:rPr>
              <a:t>Приобретае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4700b8"/>
                </a:solidFill>
                <a:latin typeface="Century Schoolbook"/>
                <a:ea typeface="Arial Unicode MS"/>
              </a:rPr>
              <a:t> </a:t>
            </a:r>
            <a:r>
              <a:rPr b="0" lang="ru-RU" sz="1800" spc="-1" strike="noStrike">
                <a:solidFill>
                  <a:srgbClr val="4700b8"/>
                </a:solidFill>
                <a:latin typeface="Century Schoolbook"/>
                <a:ea typeface="Arial Unicode MS"/>
              </a:rPr>
              <a:t>Гипертоническую болезнь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4700b8"/>
                </a:solidFill>
                <a:latin typeface="Century Schoolbook"/>
                <a:ea typeface="Arial Unicode MS"/>
              </a:rPr>
              <a:t> </a:t>
            </a:r>
            <a:r>
              <a:rPr b="0" lang="ru-RU" sz="1800" spc="-1" strike="noStrike">
                <a:solidFill>
                  <a:srgbClr val="4700b8"/>
                </a:solidFill>
                <a:latin typeface="Century Schoolbook"/>
                <a:ea typeface="Arial Unicode MS"/>
              </a:rPr>
              <a:t>Бессонницу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4700b8"/>
                </a:solidFill>
                <a:latin typeface="Century Schoolbook"/>
                <a:ea typeface="Arial Unicode MS"/>
              </a:rPr>
              <a:t> </a:t>
            </a:r>
            <a:r>
              <a:rPr b="0" lang="ru-RU" sz="1800" spc="-1" strike="noStrike">
                <a:solidFill>
                  <a:srgbClr val="4700b8"/>
                </a:solidFill>
                <a:latin typeface="Century Schoolbook"/>
                <a:ea typeface="Arial Unicode MS"/>
              </a:rPr>
              <a:t>Неправильный обмен веществ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4700b8"/>
                </a:solidFill>
                <a:latin typeface="Century Schoolbook"/>
                <a:ea typeface="Arial Unicode MS"/>
              </a:rPr>
              <a:t> </a:t>
            </a:r>
            <a:r>
              <a:rPr b="0" lang="ru-RU" sz="1800" spc="-1" strike="noStrike">
                <a:solidFill>
                  <a:srgbClr val="4700b8"/>
                </a:solidFill>
                <a:latin typeface="Century Schoolbook"/>
                <a:ea typeface="Arial Unicode MS"/>
              </a:rPr>
              <a:t>Снижается порог чувствительности нервных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4700b8"/>
                </a:solidFill>
                <a:latin typeface="Century Schoolbook"/>
                <a:ea typeface="Arial Unicode MS"/>
              </a:rPr>
              <a:t>   </a:t>
            </a:r>
            <a:r>
              <a:rPr b="0" lang="ru-RU" sz="1800" spc="-1" strike="noStrike">
                <a:solidFill>
                  <a:srgbClr val="4700b8"/>
                </a:solidFill>
                <a:latin typeface="Century Schoolbook"/>
                <a:ea typeface="Arial Unicode MS"/>
              </a:rPr>
              <a:t>клеток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23" name="Picture 5" descr=""/>
          <p:cNvPicPr/>
          <p:nvPr/>
        </p:nvPicPr>
        <p:blipFill>
          <a:blip r:embed="rId1"/>
          <a:stretch/>
        </p:blipFill>
        <p:spPr>
          <a:xfrm>
            <a:off x="539640" y="3351240"/>
            <a:ext cx="1981440" cy="204948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7T20:41:28Z</dcterms:created>
  <dc:creator>Ванек</dc:creator>
  <dc:description/>
  <dc:language>en-US</dc:language>
  <cp:lastModifiedBy>КарМаН</cp:lastModifiedBy>
  <dcterms:modified xsi:type="dcterms:W3CDTF">2011-08-23T12:14:27Z</dcterms:modified>
  <cp:revision>12</cp:revision>
  <dc:subject/>
  <dc:title>Проект на тему: «Негативное влияние шума на  здоровье человека»</dc:title>
</cp:coreProperties>
</file>